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7FA-F5FF-4CBC-AE4C-BA5B5F3C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141-B3BA-4952-ADEB-6B7EE465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F33-1E3E-499B-85E5-98A9FC8D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3BC-EF5C-49BC-898E-5AABF7D7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643-E578-46FC-824D-3A1D6294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915-421A-45D2-AB58-DE6F4843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AB3-731B-4773-AB9E-7FD86DA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B2C-3FE5-4ABF-A2EA-80F063E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382-60C8-420F-B2E1-949D7FB5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601-C1BE-46E7-AEB3-FA40165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744-D86D-4CC0-803F-13D2FB3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149-3DD3-4181-8776-2306071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4F25-530F-4DEE-83C2-628A839C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ather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dea Map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reate ideas in clusters around the main id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atching television good or bad for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tell whether you think watching television is good or bad for children. Give reasons for your opin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410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191120"/>
            <a:ext cx="3200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9528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952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an opin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you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whether you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ether you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uses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people feel their amount of stres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572000"/>
            <a:ext cx="1752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causes and effec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effec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caus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at happens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better—a car or a sport-utility veh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state which kind of vehicle you think is better. State the advantages and disadvantages of each kind of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572000"/>
            <a:ext cx="9903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6386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3680" y="12193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compare and contra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18960" y="3885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920" y="685800"/>
            <a:ext cx="5829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oosing Your Main Idea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in idea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the point of view an essay develo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514600"/>
            <a:ext cx="7238880" cy="266940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you think people feel their amount of stress is increasing. Give reasons to back up your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4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ain idea: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under a lot of stress because they have too much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Brainstorm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list ideas as they come to m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36232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96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drive in heavy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run er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take their kids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work long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51Z</dcterms:modified>
  <cp:revision>192</cp:revision>
  <dc:subject/>
  <dc:title>No Slide Title</dc:title>
</cp:coreProperties>
</file>