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6D6-7316-40DE-BB42-90C20F32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341-C6DA-44C5-9ACC-A75A6185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8FF-02A0-43D4-97A4-67E016E5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5EE-3E9B-45C8-B16F-7641C163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EF1-C692-4D88-99A6-DE841ADE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17F-8BFF-4CD8-BC2F-B2E364B6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2AF-CBBC-48AD-9FEA-BAFA807D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EA6-12C0-409D-B313-0219E380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2F0-C718-4707-BF5E-3620A294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206-2CFF-4C3B-8DF7-0BC576C5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937-44CD-49E2-B89A-AB870BFA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7EF-ACFE-4F5A-9427-4F2A6AF8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AB43-890F-4136-A0D9-0FD15521D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3429000"/>
            <a:ext cx="687708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Gathering Your Idea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19520" y="2743200"/>
            <a:ext cx="137160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685800"/>
            <a:ext cx="8705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inking of Ideas and Supporting Deta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0020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dea Map: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create ideas in clusters around the main id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581280"/>
            <a:ext cx="2286000" cy="144792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80988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38098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ople are under a lot of stress because they have too much to 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25146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26668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3124080"/>
            <a:ext cx="1295280" cy="6098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3276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w 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480060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48720" y="49528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fficult 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5181480"/>
            <a:ext cx="1295640" cy="8384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3341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o Many Dead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19920" y="41144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1240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696080" y="3657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4419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705360" y="4419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510552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51814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Kids’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556272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715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ake Kids to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276360" y="47242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23880" y="54864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3505320"/>
            <a:ext cx="129564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3657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ri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28195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ngerous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9718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987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eav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819520" y="38858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90920" y="3276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371240" y="3428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743200"/>
            <a:ext cx="7238880" cy="230364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watching television good or bad for childr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tell whether you think watching television is good or bad for children. Give reasons for your opin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410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ype of respon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an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4191120"/>
            <a:ext cx="32004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952880"/>
            <a:ext cx="12189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95288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ther key words that tell you to state an opin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3885840"/>
            <a:ext cx="5867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your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whether you bel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whether you 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4864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ype of respon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causes and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743200"/>
            <a:ext cx="7238880" cy="230364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eople say that they are under more and more str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explain why people feel their amount of stress is increas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572000"/>
            <a:ext cx="175284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ther key words that tell you to state causes and effec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400" y="3885840"/>
            <a:ext cx="3733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effec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the caus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at happens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886200"/>
            <a:ext cx="3505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what happ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743200"/>
            <a:ext cx="7238880" cy="230364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s better—a car or a sport-utility vehi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state which kind of vehicle you think is better. State the advantages and disadvantages of each kind of vehi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572000"/>
            <a:ext cx="9903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56386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ype of respon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3680" y="12193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ther key words that tell you to compare and contra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18960" y="3885840"/>
            <a:ext cx="6553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47920" y="685800"/>
            <a:ext cx="58291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hoosing Your Main Idea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447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ain idea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the point of view an essay develo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514600"/>
            <a:ext cx="7238880" cy="266940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eople say that they are under more and more str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explain why you think people feel their amount of stress is increasing. Give reasons to back up your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4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Main idea: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re under a lot of stress because they have too much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685800"/>
            <a:ext cx="8705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inking of Ideas and Supporting Deta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60020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Brainstorm: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list ideas as they come to mi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362320"/>
            <a:ext cx="7772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are under a lot of stress because they have too much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429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/Supporting Details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962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have to drive in heavy traff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495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have to run err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029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have to take their kids to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562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work long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4T22:06:51Z</dcterms:modified>
  <cp:revision>192</cp:revision>
  <dc:subject/>
  <dc:title>No Slide Title</dc:title>
</cp:coreProperties>
</file>