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5D4-CCD5-4A06-AAD5-9F926081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129-2A3D-430A-BD25-94DC9059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66A-036E-4435-B34C-C638FDE1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DE7-051E-47E9-B712-338E3E4E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14D-9E4E-4823-9AE1-C8773801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B70-5EB3-4EEB-9C80-BC22F448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9D9-1753-4895-94C7-478A1317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D39-B5AB-494A-8672-557B3307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3FA-5354-48E8-AADB-7DBAA7DA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3BA-8E74-4F26-AA87-859ABCF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1E6-F2C5-43C7-8127-ADB24DB0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18D-3E90-4A5F-B473-26EC6DB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4F93-68FE-42BF-A60D-204F0030D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429000"/>
            <a:ext cx="68770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Gathering Your Idea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9520" y="2743200"/>
            <a:ext cx="137160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685800"/>
            <a:ext cx="8705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inking of Ideas and Supporting Deta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002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dea Map: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create ideas in clusters around the main id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581280"/>
            <a:ext cx="2286000" cy="144792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80988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809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ople are under a lot of stress because they have too much to 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5146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2666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3124080"/>
            <a:ext cx="1295280" cy="6098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80060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48720" y="4952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fficult 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5181480"/>
            <a:ext cx="1295640" cy="8384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o Many Dead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19920" y="4114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1240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9608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36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510552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ids’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56272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715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ake Kids to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27636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880" y="5486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505320"/>
            <a:ext cx="129564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657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r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819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ngerous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9718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987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av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19520" y="3885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0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37124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watching television good or bad for child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tell whether you think watching television is good or bad for children. Give reasons for your opin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410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n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191120"/>
            <a:ext cx="32004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952880"/>
            <a:ext cx="12189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9528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state an opin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38858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your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whether you bel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ether you 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4864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causes an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say that they are under more and more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explain why people feel their amount of stress is increa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572000"/>
            <a:ext cx="175284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state causes and effec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388584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effec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 caus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at happens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88620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at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s better—a car or a sport-utility vehi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state which kind of vehicle you think is better. State the advantages and disadvantages of each kind of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572000"/>
            <a:ext cx="9903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6386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3680" y="12193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compare and contra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18960" y="3885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47920" y="685800"/>
            <a:ext cx="58291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hoosing Your Main Idea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47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ain idea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the point of view an essay develo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514600"/>
            <a:ext cx="7238880" cy="266940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say that they are under more and more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explain why you think people feel their amount of stress is increasing. Give reasons to back up your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4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Main idea: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under a lot of stress because they have too much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685800"/>
            <a:ext cx="8705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inking of Ideas and Supporting Deta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002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Brainstorm: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list ideas as they come to m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362320"/>
            <a:ext cx="7772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are under a lot of stress because they have too much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429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Supporting Details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96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drive in heavy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95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run er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029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take their kids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work long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06:51Z</dcterms:modified>
  <cp:revision>192</cp:revision>
  <dc:subject/>
  <dc:title>No Slide Title</dc:title>
</cp:coreProperties>
</file>