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1417-E1BD-4663-8B92-03304322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1D3A-C395-43D7-B8D8-B76CDBAB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0EBA-14D2-43B6-86E2-19AFB6441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AA74-207E-43C2-96B3-96AFB934D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D8C1-0148-4CC9-9E96-3DE0C202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9815-60E9-4CE3-A454-FE5B4DD6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DC85-BBA6-420A-95DB-7B7E1905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EB15-189F-4894-BAC5-1A6B34EF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0888-44D7-4130-952F-DB8318A7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AC9A-23B5-4005-8FD3-D731E805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D70F-5FF4-464E-BA41-48874A73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685F-89EB-45CC-95F8-9D6BFA96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2F83-C945-4A10-9353-C673AA7F7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2514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HAPTER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3520" y="3352680"/>
            <a:ext cx="8162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Preparing for the GED Essay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61722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880" y="685800"/>
            <a:ext cx="83534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Understanding the Essay Scoring Gui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44792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 “1” essay contai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in idea that does not respond to the top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s that are mixed up in order and hard to fol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 paragraphs with irrelevant or missing details and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tences and paragraphs that are written incorrectly with many errors in grammar and spe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mited range of vocabulary that is often used incor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62120" y="685800"/>
            <a:ext cx="77436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Overview of the Writing Proces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52388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writing process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will help you write a good GED essay in 45 minut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26668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1.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Gather ide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3200400"/>
            <a:ext cx="7391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the assigned topic and think of specific things you want to say about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your own experiences to help you think of id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t your ideas down on 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62120" y="685800"/>
            <a:ext cx="77436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Overview of the Writing Proces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95280" y="3200040"/>
            <a:ext cx="7391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over the ideas you have gathered and put them in a logical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you have enough good id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 off any ideas that aren’t about the top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the ideas in the order in which you will use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26668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2.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Organize your ide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52388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writing process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will help you write a good GED essay in 45 minut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62120" y="685800"/>
            <a:ext cx="77436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Overview of the Writing Proces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15" name=""/>
          <p:cNvSpPr/>
          <p:nvPr/>
        </p:nvSpPr>
        <p:spPr>
          <a:xfrm>
            <a:off x="73915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152388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writing process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will help you write a good GED essay in 45 minut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26668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3.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Write your essa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3200400"/>
            <a:ext cx="7391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the ideas you have gathered and organized into sentence and paragraph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content at this point; don’t worry about errors in grammar or spel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62120" y="685800"/>
            <a:ext cx="77436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Overview of the Writing Proces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73915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152388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writing process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will help you write a good GED essay in 45 minut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6668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4.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Revise your essa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3200400"/>
            <a:ext cx="7391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over your essay and make sure it’s structured clearly and it answers the essay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your sentences are complete and there are no mistakes in grammar, punctuation, or spel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295280" y="685800"/>
            <a:ext cx="60865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he Five-Paragraph Essay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895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introductory para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s the topic you are going to address and your main id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re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body paragraph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 ideas that support and extend the main id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oncluding para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mmarizes the essay and gives a final idea about the top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60020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five-paragraph format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is a good way to structure an essay on any topic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95280" y="685800"/>
            <a:ext cx="60865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he Five-Paragraph Essay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160020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Look again at the sample essay topic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67480" y="99072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2514600"/>
            <a:ext cx="7238880" cy="3035160"/>
          </a:xfrm>
          <a:prstGeom prst="rect">
            <a:avLst/>
          </a:prstGeom>
          <a:solidFill>
            <a:srgbClr val="6600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one important goal you would like to achieve in the next few yea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your essay, identify that goal. Explain how you plan to achieve it. Use your personal observations, experience, and knowledge to support your ess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86728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rinted with permission of the GED Testing Servi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295280" y="685800"/>
            <a:ext cx="60865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he Five-Paragraph Essay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52388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Now read the sample five-paragraph essa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7480" y="99072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09480" y="2286000"/>
          <a:ext cx="7909200" cy="4352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86000"/>
                    <a:ext cx="7909200" cy="43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304920" y="205740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INTRODUCTORY PARA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365760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BODY PARAGRAP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6600" y="20574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BODY PARAGRAP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62920" y="39625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BODY PARAGRAP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29400" y="556272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CONCLUDING PARA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6019920"/>
            <a:ext cx="266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rinted with permission of the GED Testing Servi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295280" y="685800"/>
            <a:ext cx="60865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he Five-Paragraph Essay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52388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is essay received a score of 4. It contai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67480" y="99072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2133720"/>
            <a:ext cx="8458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in idea that clearly refers to the essay topic 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(to obtain a college degre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s that are organized and easy to follow      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(three body paragraphs that develop the main ide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 paragraphs with a topic sentence and specific details and examples                           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(about paying for college, studying effectively, and training for foot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tences and paragraphs that are written correctly without grammar or spelling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ide range of vocabulary that is used cor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Impact"/>
              </a:rPr>
              <a:t>THE END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3733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the skills you learned in this chapter by taking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hapter Review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GED Practice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62120" y="28951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your personal observations, experience, and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you to explain something, such as your opinion about a common 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require special knowledge about a particular top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43000" y="685800"/>
            <a:ext cx="6734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What the GED Essay Is Lik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60020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GED essay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is a group of related paragraphs about one topic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143000" y="685800"/>
            <a:ext cx="6734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What the GED Essay Is Lik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60020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Sample GED essay topic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924680" y="914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2514600"/>
            <a:ext cx="7238880" cy="3035160"/>
          </a:xfrm>
          <a:prstGeom prst="rect">
            <a:avLst/>
          </a:prstGeom>
          <a:solidFill>
            <a:srgbClr val="6600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one important goal you would like to achieve in the next few yea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your essay, identify that goal. Explain how you plan to achieve it. Use your personal observations, experience, and knowledge to support your ess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586728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rinted with permission of the GED Testing Servi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62120" y="2895480"/>
            <a:ext cx="58672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ighest score possible on the essay is a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west score possible is a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ssing score is a 2 or hig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143000" y="685800"/>
            <a:ext cx="6734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What the GED Essay Is Lik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60020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Your essay score is 35% of your total score on the Language Arts, Writing Tes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924680" y="914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62120" y="3200040"/>
            <a:ext cx="76197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it have well-focused main poi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it have clear organiz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its main ideas developed with specific detai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sentence structure, punctuation, grammar, word choice, and spelling correc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43000" y="685800"/>
            <a:ext cx="6734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What the GED Essay Is Lik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600200"/>
            <a:ext cx="8305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wo readers will score your paper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holistically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in terms of content and overall effectivenes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924680" y="914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143000" y="685800"/>
            <a:ext cx="6734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What the GED Essay Is Lik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6002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Here is a copy of the official GED Essay Scoring Gu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24680" y="914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3520" y="2133720"/>
          <a:ext cx="8296200" cy="4486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133720"/>
                    <a:ext cx="829620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0880" y="685800"/>
            <a:ext cx="83534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Understanding the Essay Scoring Gui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144792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 “4” essay contai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53352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in idea that clearly refers to the essay top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s that are organized and easy to fol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 paragraphs with a topic sentence and specific details and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tences and paragraphs that are written correctly with hardly any grammar or spelling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ide range of vocabulary that is used cor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0880" y="685800"/>
            <a:ext cx="83534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Understanding the Essay Scoring Gui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144792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 “3” essay contai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6840" y="20570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in idea that could be written more clea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s that could be organized in a better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 paragraphs with a topic sentence but unequal amounts of details and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tences and paragraphs that are written correctly with a few grammar or spelling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abulary that is used correctly but could be more 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01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880" y="685800"/>
            <a:ext cx="83534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Understanding the Essay Scoring Gui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44792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 “2” essay contai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in idea that includes ideas not discussed in the essay top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ideas that are hard to fol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 paragraphs with a topic sentence and details and examples that could be stro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entences and paragraphs that are written incorrectly with noticeable errors in grammar and spe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mited range of vocabulary with some incorrect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01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27:45Z</dcterms:created>
  <dc:creator>jennifer_krasula</dc:creator>
  <dc:description/>
  <dc:language>en-US</dc:language>
  <cp:lastModifiedBy>jennifer_krasula</cp:lastModifiedBy>
  <dcterms:modified xsi:type="dcterms:W3CDTF">2002-05-17T17:45:56Z</dcterms:modified>
  <cp:revision>179</cp:revision>
  <dc:subject/>
  <dc:title>No Slide Title</dc:title>
</cp:coreProperties>
</file>