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4DE-EDA3-4855-A991-62613FBF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EA1-8950-413B-8BB4-9A5E3E58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CC6-C179-40DB-BC06-93E43919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A9B-83B2-434C-8FE3-6B57E1F5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0C0-5CB4-47D5-B5E7-7E6942B9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023-959F-4F8D-8103-8D0C0216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EF0-C842-42F3-9995-8BEE5AAA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44A-1F64-4760-9728-C97E58FD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4CA-090D-4909-A98E-7E55E546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9F4-A719-4834-A693-0C72677B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8FE-A6D3-4022-9233-73B4F585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B5D-0407-415E-9A1F-43D54518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BB28-B05B-438C-A67C-3531A6E03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3352680"/>
            <a:ext cx="8162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Preparing for the GED Essay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1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does not respond to the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mixed up in order and hard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irrelevant or missing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incorrectly with many errors in grammar and sp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mited range of vocabulary that is often used in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athe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assigned topic and think of specific things you want to say abou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r own experiences to help you think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your ideas down on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ver the ideas you have gathered and put them in a logical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have enough good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aren’t about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the ideas in the order in which you will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rganize you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e your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ideas you have gathered and organized into sentence and paragraph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content at this point; don’t worry about errors in grammar or spe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Overview of 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ing process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will help you write a good GED essay in 45 minu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6668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Revise your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20040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over your essay and make sure it’s structured clearly and it answers the essay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r sentences are complete and there are no mistakes in grammar, punctuation, or spe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895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ntroductory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the topic you are going to address and your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ody paragra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 ideas that support and extend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ncluding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mmarizes the essay and gives a final idea about the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five-paragraph format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good way to structure an essay on an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6002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again at the sample essa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514600"/>
            <a:ext cx="7238880" cy="303516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ne important goal you would like to achieve in the next few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identify that goal. Explain how you plan to achieve it. Use your personal observations, experience, and knowledge to support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86728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Now read the sample five-paragraph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2286000"/>
          <a:ext cx="7909200" cy="435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0"/>
                    <a:ext cx="790920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04920" y="20574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INTRODUCTORY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6576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20574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396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BODY 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55627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CONCLUDING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60199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is essay received a score of 4. It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9907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1337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learly refers to the essay topic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to obtain a college deg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organized and easy to follow     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three body paragraphs that develop the main ide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specific details and examples                          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about paying for college, studying effectively, and training for footb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out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range of vocabulary that is used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your personal observations, experience, and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you to explain something, such as your opinion about a common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special knowledge about a particular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ED essay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a group of related paragraphs about one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6002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ample GED essay topic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514600"/>
            <a:ext cx="7238880" cy="303516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ne important goal you would like to achieve in the next few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identify that goal. Explain how you plan to achieve it. Use your personal observations, experience, and knowledge to support your ess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86728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inted with permission of the GED Testing Serv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2895480"/>
            <a:ext cx="5867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score possible on the essay is a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west score possible is a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ssing score is a 2 or hig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essay score is 35% of your total score on the Language Arts, Writing Te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2120" y="320004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have well-focused main poi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have clear organ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ts main ideas developed with specific detai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sentence structure, punctuation, grammar, word choice, and spelling corr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60020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wo readers will score your paper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holistically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n terms of content and overall effectiven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3000" y="685800"/>
            <a:ext cx="6734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What the GED Essay Is Lik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Here is a copy of the official GED Essay Scoring Gu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914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2133720"/>
          <a:ext cx="8296200" cy="4486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82962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4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learly refers to the essay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are organized and easy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specific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 hardly any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range of vocabulary that is used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3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could be written more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that could be organized in a bette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but unequal amounts of detail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 and paragraphs that are written correctly with a few grammar or spelling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that is used correctly but could be more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8: Preparing for the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685800"/>
            <a:ext cx="8353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Understanding the Essay Scoring Gu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4479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 “2” essay con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in idea that includes ideas not discussed in the essay 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deas that are hard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paragraphs with a topic sentence and details and examples that could be stro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entences and paragraphs that are written incorrectly with noticeable errors in grammar and sp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mited range of vocabulary with some incorrect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05-17T17:45:56Z</dcterms:modified>
  <cp:revision>179</cp:revision>
  <dc:subject/>
  <dc:title>No Slide Title</dc:title>
</cp:coreProperties>
</file>