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EDE00-D452-46AB-B0FF-679087026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890B1-38B2-4B51-9659-F6A1FCD5F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EF324-0D55-46FF-9BC6-C78F9E6A7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83880-AEAA-41ED-8E0D-36C374793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E01F-E547-46B1-B992-18FD43FDC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DEAAA-63C8-4223-8449-E659F2137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32E03-5B1E-4C7F-8D85-8FE1F9A88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C96B9-22F5-4DF0-91C6-F39C5116E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80BE-6B01-466F-8FDC-CC0EBEFD7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F84C-899A-41F8-8D20-63FCE54CA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D5BC-25D4-4FEE-95EA-160FCAA85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E8E8-C7FF-4300-9A5D-D4B251AF7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06024-D02F-42AD-B89A-DBF11E0C88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295280" y="25142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CHAPTER 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533520" y="3352680"/>
            <a:ext cx="816264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Comic Sans MS"/>
              </a:rPr>
              <a:t>Preparing for the GED Essay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43" name=""/>
          <p:cNvSpPr/>
          <p:nvPr/>
        </p:nvSpPr>
        <p:spPr>
          <a:xfrm>
            <a:off x="6172200" y="6172200"/>
            <a:ext cx="266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152280"/>
            <a:ext cx="320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8: Preparing for the GED Ess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80880" y="685800"/>
            <a:ext cx="835344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Understanding the Essay Scoring Guid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1447920"/>
            <a:ext cx="8305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A “1” essay contain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533520" y="1981080"/>
            <a:ext cx="80769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main idea that does not respond to the top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as that are mixed up in order and hard to foll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dy paragraphs with irrelevant or missing details and 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tences and paragraphs that are written incorrectly with many errors in grammar and spel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limited range of vocabulary that is often used incorrect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6201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" y="152280"/>
            <a:ext cx="3352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8: Preparing for the GED Ess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762120" y="685800"/>
            <a:ext cx="774360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Overview of the Writing Process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102" name=""/>
          <p:cNvSpPr/>
          <p:nvPr/>
        </p:nvSpPr>
        <p:spPr>
          <a:xfrm>
            <a:off x="228600" y="1523880"/>
            <a:ext cx="83059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The </a:t>
            </a: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writing process</a:t>
            </a: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 will help you write a good GED essay in 45 minute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62120" y="2666880"/>
            <a:ext cx="8153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5760" indent="-455760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1.</a:t>
            </a: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Gather idea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3200400"/>
            <a:ext cx="739152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e the assigned topic and think of specific things you want to say about 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your own experiences to help you think of ide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t your ideas down on pap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" y="152280"/>
            <a:ext cx="3352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8: Preparing for the GED Ess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762120" y="685800"/>
            <a:ext cx="774360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Overview of the Writing Process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1295280" y="3200040"/>
            <a:ext cx="73915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 over the ideas you have gathered and put them in a logical ord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sure you have enough good ide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 off any ideas that aren’t about the topi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up the ideas in the order in which you will use th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2120" y="2666880"/>
            <a:ext cx="8153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5760" indent="-455760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2.</a:t>
            </a: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Organize your idea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3915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28600" y="1523880"/>
            <a:ext cx="83059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The </a:t>
            </a: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writing process</a:t>
            </a: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 will help you write a good GED essay in 45 minute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28600" y="152280"/>
            <a:ext cx="3352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8: Preparing for the GED Ess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762120" y="685800"/>
            <a:ext cx="774360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Overview of the Writing Process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115" name=""/>
          <p:cNvSpPr/>
          <p:nvPr/>
        </p:nvSpPr>
        <p:spPr>
          <a:xfrm>
            <a:off x="73915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28600" y="1523880"/>
            <a:ext cx="83059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The </a:t>
            </a: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writing process</a:t>
            </a: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 will help you write a good GED essay in 45 minute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62120" y="2666880"/>
            <a:ext cx="8153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5760" indent="-455760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3.</a:t>
            </a: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Write your essay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295280" y="3200400"/>
            <a:ext cx="739152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t the ideas you have gathered and organized into sentence and paragraph for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 on content at this point; don’t worry about errors in grammar or spell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28600" y="152280"/>
            <a:ext cx="3352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8: Preparing for the GED Ess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62120" y="685800"/>
            <a:ext cx="774360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Overview of the Writing Process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122" name=""/>
          <p:cNvSpPr/>
          <p:nvPr/>
        </p:nvSpPr>
        <p:spPr>
          <a:xfrm>
            <a:off x="73915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" y="1523880"/>
            <a:ext cx="83059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The </a:t>
            </a: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writing process</a:t>
            </a: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 will help you write a good GED essay in 45 minute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62120" y="2666880"/>
            <a:ext cx="8153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5760" indent="-455760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4.</a:t>
            </a: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Revise your essay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295280" y="3200400"/>
            <a:ext cx="739152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 over your essay and make sure it’s structured clearly and it answers the essay ques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sure your sentences are complete and there are no mistakes in grammar, punctuation, or spell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28600" y="152280"/>
            <a:ext cx="3352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8: Preparing for the GED Ess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295280" y="685800"/>
            <a:ext cx="608652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The Five-Paragraph Essay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838080" y="28954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introductory paragrap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tates the topic you are going to address and your main ide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hree 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body paragraph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xpress ideas that support and extend the main ide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concluding paragrap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ummarizes the essay and gives a final idea about the topi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600200"/>
            <a:ext cx="83059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The </a:t>
            </a: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five-paragraph format</a:t>
            </a: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 is a good way to structure an essay on any topic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152280"/>
            <a:ext cx="3352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8: Preparing for the GED Ess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95280" y="685800"/>
            <a:ext cx="608652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The Five-Paragraph Essay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134" name=""/>
          <p:cNvSpPr/>
          <p:nvPr/>
        </p:nvSpPr>
        <p:spPr>
          <a:xfrm>
            <a:off x="228600" y="1600200"/>
            <a:ext cx="8305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Look again at the sample essay topic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467480" y="99072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914400" y="2514600"/>
            <a:ext cx="7238880" cy="3035160"/>
          </a:xfrm>
          <a:prstGeom prst="rect">
            <a:avLst/>
          </a:prstGeom>
          <a:solidFill>
            <a:srgbClr val="6600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P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one important goal you would like to achieve in the next few year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spcAft>
                <a:spcPts val="19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your essay, identify that goal. Explain how you plan to achieve it. Use your personal observations, experience, and knowledge to support your ess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867280"/>
            <a:ext cx="3886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printed with permission of the GED Testing Service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" y="152280"/>
            <a:ext cx="3352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8: Preparing for the GED Ess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295280" y="685800"/>
            <a:ext cx="608652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The Five-Paragraph Essay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" y="1523880"/>
            <a:ext cx="8305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Now read the sample five-paragraph essay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467480" y="99072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609480" y="2286000"/>
          <a:ext cx="7909200" cy="43527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2286000"/>
                    <a:ext cx="7909200" cy="435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"/>
          <p:cNvSpPr/>
          <p:nvPr/>
        </p:nvSpPr>
        <p:spPr>
          <a:xfrm>
            <a:off x="304920" y="205740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0066"/>
                </a:solidFill>
                <a:latin typeface="Arial"/>
              </a:rPr>
              <a:t>INTRODUCTORY PARAGRAP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04920" y="365760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0066"/>
                </a:solidFill>
                <a:latin typeface="Arial"/>
              </a:rPr>
              <a:t>BODY PARAGRAP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086600" y="2057400"/>
            <a:ext cx="18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0066"/>
                </a:solidFill>
                <a:latin typeface="Arial"/>
              </a:rPr>
              <a:t>BODY PARAGRAP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162920" y="39625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0066"/>
                </a:solidFill>
                <a:latin typeface="Arial"/>
              </a:rPr>
              <a:t>BODY PARAGRAP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629400" y="556272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0066"/>
                </a:solidFill>
                <a:latin typeface="Arial"/>
              </a:rPr>
              <a:t>CONCLUDING PARAGRAP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6019920"/>
            <a:ext cx="2666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rinted with permission of the GED Testing Servic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28600" y="152280"/>
            <a:ext cx="3352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8: Preparing for the GED Ess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1295280" y="685800"/>
            <a:ext cx="608652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The Five-Paragraph Essay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523880"/>
            <a:ext cx="8305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This essay received a score of 4. It contain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467480" y="99072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" y="2133720"/>
            <a:ext cx="84582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main idea that clearly refers to the essay topic </a:t>
            </a:r>
            <a:r>
              <a:rPr b="1" lang="en-US" sz="1800" spc="-1" strike="noStrike">
                <a:solidFill>
                  <a:srgbClr val="660066"/>
                </a:solidFill>
                <a:latin typeface="Arial"/>
              </a:rPr>
              <a:t>(to obtain a college degre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as that are organized and easy to follow      </a:t>
            </a:r>
            <a:r>
              <a:rPr b="1" lang="en-US" sz="1800" spc="-1" strike="noStrike">
                <a:solidFill>
                  <a:srgbClr val="660066"/>
                </a:solidFill>
                <a:latin typeface="Arial"/>
              </a:rPr>
              <a:t>(three body paragraphs that develop the main ide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dy paragraphs with a topic sentence and specific details and examples                           </a:t>
            </a:r>
            <a:r>
              <a:rPr b="1" lang="en-US" sz="1800" spc="-1" strike="noStrike">
                <a:solidFill>
                  <a:srgbClr val="660066"/>
                </a:solidFill>
                <a:latin typeface="Arial"/>
              </a:rPr>
              <a:t>(about paying for college, studying effectively, and training for footbal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tences and paragraphs that are written correctly without grammar or spelling err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wide range of vocabulary that is used correct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285640" y="2286000"/>
            <a:ext cx="4724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a50021"/>
                </a:solidFill>
                <a:latin typeface="Impact"/>
              </a:rPr>
              <a:t>THE END</a:t>
            </a:r>
            <a:endParaRPr b="0" lang="en-US" sz="7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62120" y="3733920"/>
            <a:ext cx="761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actice the skills you learned in this chapter by taking the 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Chapter Review Qui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the 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GED Practice Qui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28600" y="152280"/>
            <a:ext cx="320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8: Preparing for the GED Ess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762120" y="289512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ed on your personal observations, experience, and knowle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s you to explain something, such as your opinion about a common iss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not require special knowledge about a particular top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152280"/>
            <a:ext cx="320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8: Preparing for the GED Ess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143000" y="685800"/>
            <a:ext cx="673416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What the GED Essay Is Like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1600200"/>
            <a:ext cx="83059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A </a:t>
            </a: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GED essay</a:t>
            </a: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 is a group of related paragraphs about one topic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152280"/>
            <a:ext cx="320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8: Preparing for the GED Ess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143000" y="685800"/>
            <a:ext cx="673416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What the GED Essay Is Like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600200"/>
            <a:ext cx="8305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Sample GED essay topic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924680" y="91440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914400" y="2514600"/>
            <a:ext cx="7238880" cy="3035160"/>
          </a:xfrm>
          <a:prstGeom prst="rect">
            <a:avLst/>
          </a:prstGeom>
          <a:solidFill>
            <a:srgbClr val="6600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P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one important goal you would like to achieve in the next few year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spcAft>
                <a:spcPts val="19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your essay, identify that goal. Explain how you plan to achieve it. Use your personal observations, experience, and knowledge to support your ess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914400" y="5867280"/>
            <a:ext cx="3886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printed with permission of the GED Testing Service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762120" y="2895480"/>
            <a:ext cx="586728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highest score possible on the essay is a 4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lowest score possible is a 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assing score is a 2 or high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28600" y="152280"/>
            <a:ext cx="320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8: Preparing for the GED Ess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143000" y="685800"/>
            <a:ext cx="673416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What the GED Essay Is Like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600200"/>
            <a:ext cx="83059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Your essay score is 35% of your total score on the Language Arts, Writing Test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924680" y="91440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762120" y="3200040"/>
            <a:ext cx="761976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it have well-focused main point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it have clear organizatio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its main ideas developed with specific detail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the sentence structure, punctuation, grammar, word choice, and spelling correc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28600" y="152280"/>
            <a:ext cx="320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8: Preparing for the GED Ess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1143000" y="685800"/>
            <a:ext cx="673416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What the GED Essay Is Like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1600200"/>
            <a:ext cx="830592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Two readers will score your paper </a:t>
            </a: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holistically </a:t>
            </a: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in terms of content and overall effectivenes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924680" y="91440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28600" y="152280"/>
            <a:ext cx="320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8: Preparing for the GED Ess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1143000" y="685800"/>
            <a:ext cx="673416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What the GED Essay Is Like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72" name=""/>
          <p:cNvSpPr/>
          <p:nvPr/>
        </p:nvSpPr>
        <p:spPr>
          <a:xfrm>
            <a:off x="380880" y="160020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Here is a copy of the official GED Essay Scoring Gui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924680" y="91440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533520" y="2133720"/>
          <a:ext cx="8296200" cy="44863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2133720"/>
                    <a:ext cx="8296200" cy="448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28600" y="152280"/>
            <a:ext cx="320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8: Preparing for the GED Ess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380880" y="685800"/>
            <a:ext cx="835344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Understanding the Essay Scoring Guid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79" name=""/>
          <p:cNvSpPr/>
          <p:nvPr/>
        </p:nvSpPr>
        <p:spPr>
          <a:xfrm>
            <a:off x="228600" y="1447920"/>
            <a:ext cx="8305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A “4” essay contain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533520" y="205704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main idea that clearly refers to the essay top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as that are organized and easy to foll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dy paragraphs with a topic sentence and specific details and 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tences and paragraphs that are written correctly with hardly any grammar or spelling err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wide range of vocabulary that is used correct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152280"/>
            <a:ext cx="320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8: Preparing for the GED Ess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80880" y="685800"/>
            <a:ext cx="835344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Understanding the Essay Scoring Guid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84" name=""/>
          <p:cNvSpPr/>
          <p:nvPr/>
        </p:nvSpPr>
        <p:spPr>
          <a:xfrm>
            <a:off x="228600" y="1447920"/>
            <a:ext cx="8305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A “3” essay contain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56840" y="2057040"/>
            <a:ext cx="80773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main idea that could be written more clear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as that could be organized in a better 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dy paragraphs with a topic sentence but unequal amounts of details and 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tences and paragraphs that are written correctly with a few grammar or spelling err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cabulary that is used correctly but could be more comple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6201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152280"/>
            <a:ext cx="320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8: Preparing for the GED Ess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80880" y="685800"/>
            <a:ext cx="835344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Understanding the Essay Scoring Guid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1447920"/>
            <a:ext cx="8305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A “2” essay contain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533520" y="1981080"/>
            <a:ext cx="80769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main idea that includes ideas not discussed in the essay top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ideas that are hard to foll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dy paragraphs with a topic sentence and details and examples that could be stron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sentences and paragraphs that are written incorrectly with noticeable errors in grammar and spel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limited range of vocabulary with some incorrect wor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6201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7T20:27:45Z</dcterms:created>
  <dc:creator>jennifer_krasula</dc:creator>
  <dc:description/>
  <dc:language>en-US</dc:language>
  <cp:lastModifiedBy>jennifer_krasula</cp:lastModifiedBy>
  <dcterms:modified xsi:type="dcterms:W3CDTF">2002-05-17T17:45:56Z</dcterms:modified>
  <cp:revision>179</cp:revision>
  <dc:subject/>
  <dc:title>No Slide Title</dc:title>
</cp:coreProperties>
</file>