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CE8-14A7-4687-8BA1-90F87E51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2B6-3D19-4607-BAFF-622BDBB2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A9A-E1E7-418A-9352-FEAAB56F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AA6-B926-4804-8463-38CA1467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4F6-5FDD-4C2B-B182-31AF71F7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15D-F590-47AB-A72A-01908BC5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B20-3E34-437D-BB6C-10343DC2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E7A-C992-41F3-94DB-CEFEC436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52A-E8CD-468E-9E58-BB945F98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227-2E05-4482-A8A0-52439870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E62-B6E6-4FF3-96CD-BAF7FD2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D62-7235-4FFD-A7E2-FF0905DC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EC2A-96F4-41ED-9E07-4198F8603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3352680"/>
            <a:ext cx="8162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Preparing for the GED Essay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1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does not respond to the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are mixed up in order and hard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irrelevant or missing detail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incorrectly with many errors in grammar and sp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mited range of vocabulary that is often used in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athe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320040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assigned topic and think of specific things you want to say abou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your own experiences to help you think of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your ideas down on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3200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ver the ideas you have gathered and put them in a logical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have enough good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f any ideas that aren’t about the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the ideas in the order in which you will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rganize you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e your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320040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ideas you have gathered and organized into sentence and paragraph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content at this point; don’t worry about errors in grammar or spe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Revise your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20040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over your essay and make sure it’s structured clearly and it answers the essay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r sentences are complete and there are no mistakes in grammar, punctuation, or spe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895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troductory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the topic you are going to address and your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ody paragra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 ideas that support and extend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ncluding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mmarizes the essay and gives a final idea about the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five-paragraph format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good way to structure an essay on any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60020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again at the sample essay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514600"/>
            <a:ext cx="7238880" cy="303516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one important goal you would like to achieve in the next few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identify that goal. Explain how you plan to achieve it. Use your personal observations, experience, and knowledge to support your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86728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inted with permission of the GED Testing Serv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Now read the sample five-paragraph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2286000"/>
          <a:ext cx="7909200" cy="435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0"/>
                    <a:ext cx="790920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04920" y="20574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INTRODUCTORY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6576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BODY PARAGRAP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20574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BODY PARAGRAP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396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BODY PARAGRAP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55627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CONCLUDING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60199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rinted with permission of the GED Testing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is essay received a score of 4. It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1337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clearly refers to the essay topic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to obtain a college degr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are organized and easy to follow     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three body paragraphs that develop the main ide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and specific details and examples                          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about paying for college, studying effectively, and training for foot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correctly without grammar or spell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range of vocabulary that is used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your personal observations, experience, and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you to explain something, such as your opinion about a common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special knowledge about a particular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ED essay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group of related paragraphs about one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60020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ample GED essay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514600"/>
            <a:ext cx="7238880" cy="303516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one important goal you would like to achieve in the next few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identify that goal. Explain how you plan to achieve it. Use your personal observations, experience, and knowledge to support your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86728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inted with permission of the GED Testing Serv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2120" y="2895480"/>
            <a:ext cx="5867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st score possible on the essay is a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west score possible is a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ssing score is a 2 or hig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essay score is 35% of your total score on the Language Arts, Writing Te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2120" y="320004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have well-focused main poi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have clear organiz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ts main ideas developed with specific detai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sentence structure, punctuation, grammar, word choice, and spelling corr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60020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wo readers will score your paper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listically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n terms of content and overall effectiven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Here is a copy of the official GED Essay Scoring Gu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2133720"/>
          <a:ext cx="8296200" cy="4486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82962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4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clearly refers to the essay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are organized and easy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and specific detail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correctly with hardly any grammar or spell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range of vocabulary that is used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3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could be written more cl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could be organized in a bette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but unequal amounts of detail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correctly with a few grammar or spell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that is used correctly but could be mor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2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includes ideas not discussed in the essay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deas that are hard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and details and examples that could be str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entences and paragraphs that are written incorrectly with noticeable errors in grammar and sp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mited range of vocabulary with some incorrect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17T17:45:56Z</dcterms:modified>
  <cp:revision>179</cp:revision>
  <dc:subject/>
  <dc:title>No Slide Title</dc:title>
</cp:coreProperties>
</file>