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42A4-C43C-4F92-BF18-99B28CC16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1150-D716-4A43-A5C3-2A31A4A4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671C-CD99-4977-88C9-57D149F65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2FC9-A947-478A-B888-FAF700FEF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BD7D-CFAA-425F-BA3B-6D166D02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F022-BB63-42B6-9775-ED4C21C8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B4DC-43BD-4092-9790-7C40DB3B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7DE1-451D-40C5-AD21-5A40A87A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932D-ACB3-4C95-9CE5-A13515E0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31F0-7536-433E-95A5-7A53E984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34D4-0079-447C-8AB0-9D7EE8A6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570A-198D-4B17-9C5E-AAC8A97B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BC76-17FE-4361-9DD3-1E5B60316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2514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HAPTER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33720" y="3352680"/>
            <a:ext cx="49338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Mechanics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6172200" y="61722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52280"/>
            <a:ext cx="2286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6: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666880" y="685800"/>
            <a:ext cx="32004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apitalization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1240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y left for their vacation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1.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Capitalize the first letter of the first word of every sentenc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4038480"/>
            <a:ext cx="8382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2.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Capitalize proper noun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48006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ey left for their vacation in Florida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14400" y="2666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s and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52280"/>
            <a:ext cx="2286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6: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666880" y="685800"/>
            <a:ext cx="32004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apitalization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Some words are always proper noun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19920" y="9144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31240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(Monday; Apr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35812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ies, states, and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05120" y="40384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(Indianapolis; Alaska; Braz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44956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’s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54100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s derived from specific pl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49528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(Tom; Alice; Ms. Stant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58672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(American, European, Afric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52280"/>
            <a:ext cx="2286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6: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666880" y="685800"/>
            <a:ext cx="32004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apitalization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905120"/>
            <a:ext cx="8382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Some words are capitalized sometimes but not other times, depending on how they are used in a sentenc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19920" y="9144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39625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oday my uncle called his do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5029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oday Uncle Joe called Doctor Pat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1522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6: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209680" y="685800"/>
            <a:ext cx="44960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Spelling Homonym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523880"/>
            <a:ext cx="8382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Homonyms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are words that sound alike but are spelled differently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914400" y="2666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examples of homonyms are pronouns, possessives, and contrac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3880" y="37339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There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should be an announcement telling the employees to bring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their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handboo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48006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It’s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going to fall on </a:t>
            </a:r>
            <a:r>
              <a:rPr b="1" i="1" lang="en-US" sz="2400" spc="-1" strike="noStrike" u="sng">
                <a:solidFill>
                  <a:srgbClr val="660066"/>
                </a:solidFill>
                <a:uFillTx/>
                <a:latin typeface="Comic Sans MS"/>
              </a:rPr>
              <a:t>its</a:t>
            </a: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 hea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1522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6: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209680" y="685800"/>
            <a:ext cx="44960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Spelling Homonym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914400" y="1447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ther common homonyms are shown in the chart belo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9144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290680" y="2514600"/>
          <a:ext cx="5176800" cy="4114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90680" y="2514600"/>
                    <a:ext cx="5176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6: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514600" y="685800"/>
            <a:ext cx="33814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mma Review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25146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Angela washed, waxed, and vacuumed the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ommas to separate three or more items in a ser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365760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For her birthday, my mother received tickets to a Broadway 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31240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comma after an introductory ele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45720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ommas to separate a renaming phrase from the rest of the senten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548640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This memo, a report on mail safety procedures, should be distributed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6: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514600" y="685800"/>
            <a:ext cx="33814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omma Review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1371600" y="25146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We knew the consequences, but we decided to speak up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comma between independent clauses joined by a conj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434340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mic Sans MS"/>
              </a:rPr>
              <a:t>If you are going to be late, please call your supervis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34290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comma after a dependent clause that precedes an independent clau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5880" y="10666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50021"/>
                </a:solidFill>
                <a:latin typeface="Impact"/>
              </a:rPr>
              <a:t>THE END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37339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the skills you learned in this chapter by taking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hapter Review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GED Practice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522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6: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27:45Z</dcterms:created>
  <dc:creator>jennifer_krasula</dc:creator>
  <dc:description/>
  <dc:language>en-US</dc:language>
  <cp:lastModifiedBy>jennifer_krasula</cp:lastModifiedBy>
  <dcterms:modified xsi:type="dcterms:W3CDTF">2002-05-02T18:29:09Z</dcterms:modified>
  <cp:revision>190</cp:revision>
  <dc:subject/>
  <dc:title>No Slide Title</dc:title>
</cp:coreProperties>
</file>