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14E3-B1F4-4B5C-A745-4F00B66D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579-8D84-43E8-BFA1-AC49CADE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1020-3C7B-4518-9AA1-EF965E99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FE4-87A2-4985-8B1C-95FA14DB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13FE-F54D-48F9-A9C5-E5A3C7E4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475-937E-47AE-8B75-ECC695CE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0B2-E131-481D-A981-A6C1080A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464-F7A4-40CB-9C55-B5E084C9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386-6541-45C1-8DCC-CE4D84F8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C53-B2E6-4232-80A8-D4373600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E3B-B8F4-43D5-A60D-9B312842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A09-CC02-473E-9379-EA52992A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FB0F-03EF-4D71-8199-A2A318E54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33720" y="3352680"/>
            <a:ext cx="4933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Mechanic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666880" y="685800"/>
            <a:ext cx="3200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apitalization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124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y left for their vacation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Capitalize the first letter of the first word of every sentenc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03848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Capitalize proper nou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800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y left for their vacation in Florida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2666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s and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522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66880" y="685800"/>
            <a:ext cx="3200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apitalization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ome words are always proper nou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3124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(Monday; Apr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3581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es, states, and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4038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(Indianapolis; Alaska; Braz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4495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’s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54100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 derived from specific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4952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(Tom; Alice; Ms. Stan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5867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(American, European, Afric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522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666880" y="685800"/>
            <a:ext cx="3200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apitalization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ome words are capitalized sometimes but not other times, depending on how they are used in a sentenc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992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39625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oday my uncle called his do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029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oday Uncle Joe called Doctor Pat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09680" y="685800"/>
            <a:ext cx="4496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pelling Homonym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5238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Homonym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are words that sound alike but are spelled differently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914400" y="2666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xamples of homonyms are pronouns, possessives, and contra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37339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her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should be an announcement telling the employees to bring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heir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handboo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4800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It’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going to fall o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it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hea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09680" y="685800"/>
            <a:ext cx="4496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pelling Homonym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ther common homonyms are shown in the chart bel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90680" y="2514600"/>
          <a:ext cx="517680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0680" y="2514600"/>
                    <a:ext cx="5176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14600" y="685800"/>
            <a:ext cx="33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 Review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514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ngela washed, waxed, and vacuumed the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mas to separate three or more items in a se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6576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For her birthday, my mother received tickets to a Broadway 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1240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after an introductory el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572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mas to separate a renaming phrase from the rest of the sent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54864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is memo, a report on mail safety procedures, should be distributed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14600" y="685800"/>
            <a:ext cx="33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 Review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2514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e knew the consequences, but we decided to speak up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between independent clauses joined by a conj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3434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f you are going to be late, please call your supervi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429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after a dependent clause that precedes an independent cl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05-02T18:29:09Z</dcterms:modified>
  <cp:revision>190</cp:revision>
  <dc:subject/>
  <dc:title>No Slide Title</dc:title>
</cp:coreProperties>
</file>