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DC7-6EC8-4B93-B128-C264911D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17B-2A27-4A85-8503-0B6585C8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469-D7BA-4B78-A6E1-F6C1E768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28D-7234-48AD-9132-C19CB726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33A-B045-405B-B008-211DBDEE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48B-2885-4C8C-80F3-F3C79DA7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107-493F-443D-AC9B-E64BB62D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345-C8BD-483C-A133-D9EF068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C4A-FE5D-480C-8B3E-378F4223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646-2A24-465B-BAF1-5CB33089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872-9EB4-4266-81AF-95CBC76B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45F-23A4-4949-A736-05355AF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8075-E577-4E7D-AA7B-9048C892B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3352680"/>
            <a:ext cx="4933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Mechanic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124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y left for their vacation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pitalize the first letter of the first word of every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0384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pitalize proper nou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800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y left for their vacation in Florida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and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me words are always proper nou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Monday; Apr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3581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es, states, an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038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Indianapolis; Alaska; Braz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495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’s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410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derived from specific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952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Tom; Alice; Ms. Stan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American, European, Afri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me words are capitalized sometimes but not other times, depending on how they are used in a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3962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day my uncle called his do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day Uncle Joe called Doctor Pa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09680" y="685800"/>
            <a:ext cx="4496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pelling Homony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5238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re words that sound alike but are spelled differentl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 of homonyms are pronouns, possessives, and contr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733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ould be an announcement telling the employees to bring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ir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and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going to fall o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e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09680" y="685800"/>
            <a:ext cx="4496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pelling Homony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common homonyms are shown in the chart be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90680" y="2514600"/>
          <a:ext cx="51768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0680" y="2514600"/>
                    <a:ext cx="5176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Review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514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gela washed, waxed, and vacuumed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as to separate three or more items in a s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6576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or her birthday, my mother received tickets to a Broadway 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an introductory el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as to separate a renaming phrase from the rest of the sent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4864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is memo, a report on mail safety procedures, should be distributed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146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Review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2514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e knew the consequences, but we decided to speak up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tween independent clauses joined by a conj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3434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you are going to be late, please call your super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429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a dependent clause that precedes an independent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2T18:29:09Z</dcterms:modified>
  <cp:revision>190</cp:revision>
  <dc:subject/>
  <dc:title>No Slide Title</dc:title>
</cp:coreProperties>
</file>