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E05-75BF-4256-BB3D-31FAB867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0C18-DE2E-4A8C-8F99-1B87177D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C728-E378-4F4F-82A6-80BDB252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6FAD-D0E3-4717-AEF7-26D02A10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E434-4BBC-45DC-8802-2FDB4F29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B0F8-4BDF-4CE8-AA8C-A3F3E163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0345-3459-4077-962A-8504D6C5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43C9-CED5-45DE-842A-9C86981A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32D9-16DC-47B2-B5C0-BD9F5FC3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F46-C186-4AA1-87D5-798CA5CC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91A6-19C1-4E23-B8C4-D20D2C5B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7A4C-CDBE-439B-B6AE-02ED0FD6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D979-1766-4E9B-8E4C-062AF4677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33720" y="3352680"/>
            <a:ext cx="4933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Mechanics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5228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6: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666880" y="685800"/>
            <a:ext cx="32004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apitalization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1240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y left for their vacation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1.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Capitalize the first letter of the first word of every sentenc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4038480"/>
            <a:ext cx="838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Capitalize proper nou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48006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y left for their vacation in Florida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14400" y="2666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s and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5228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6: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66880" y="685800"/>
            <a:ext cx="32004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apitalization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ome words are always proper nou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3124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(Monday; Apr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3581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ies, states, and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4038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(Indianapolis; Alaska; Braz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44956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’s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54100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s derived from specific p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49528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(Tom; Alice; Ms. Stant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5867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(American, European, Afric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5228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6: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666880" y="685800"/>
            <a:ext cx="32004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apitalization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ome words are capitalized sometimes but not other times, depending on how they are used in a sentenc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1992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39625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oday my uncle called his do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5029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oday Uncle Joe called Doctor Pat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522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6: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09680" y="685800"/>
            <a:ext cx="4496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pelling Homonym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5238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Homonym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are words that sound alike but are spelled differently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914400" y="2666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examples of homonyms are pronouns, possessives, and contra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37339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There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should be an announcement telling the employees to bring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their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handboo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4800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It’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going to fall o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it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hea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522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6: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209680" y="685800"/>
            <a:ext cx="4496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pelling Homonym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ther common homonyms are shown in the chart bel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290680" y="2514600"/>
          <a:ext cx="5176800" cy="411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90680" y="2514600"/>
                    <a:ext cx="5176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6: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14600" y="685800"/>
            <a:ext cx="3381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ma Review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2514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Angela washed, waxed, and vacuumed the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mmas to separate three or more items in a ser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36576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For her birthday, my mother received tickets to a Broadway 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31240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ma after an introductory el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572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mmas to separate a renaming phrase from the rest of the sent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54864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is memo, a report on mail safety procedures, should be distributed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6: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14600" y="685800"/>
            <a:ext cx="3381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ma Review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25146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e knew the consequences, but we decided to speak up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ma between independent clauses joined by a conj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43434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f you are going to be late, please call your supervis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4290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ma after a dependent clause that precedes an independent cl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6: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05-02T18:29:09Z</dcterms:modified>
  <cp:revision>190</cp:revision>
  <dc:subject/>
  <dc:title>No Slide Title</dc:title>
</cp:coreProperties>
</file>