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0822-9633-4516-8785-6D77624E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79A8-2A21-488F-B3F5-5C85B406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498-B473-4556-AFF6-FC324FA3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3B3-EC8C-45A2-919B-1DE16AE1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08C-BEE8-44C2-976C-0331A351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A935-575F-4145-AE6A-93EF1B00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E89-EAED-4FC8-A05C-AC9B24F3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ACB7-1650-4461-9926-48788437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94EA-C835-451E-BD87-0C63736F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653A-914A-4448-B91D-7669586B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468C-DB4D-44AF-8466-5C296C05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C346-753B-4F07-9F15-5445B705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9CE4-7B57-49E8-8A29-317FFB890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352680"/>
            <a:ext cx="837252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Using Correct Language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362320" y="685800"/>
            <a:ext cx="4047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clear 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30481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ach talked to Kobe because he was frustrated by his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ntece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word to which a pronoun refers. Sometimes it isn’t clear what antecedent a pronoun is referring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6483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ach talked to Kobe because the coach was frustrated by Kobe’s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3048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WH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3581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WH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5181480"/>
            <a:ext cx="15238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715000"/>
            <a:ext cx="9144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362320" y="685800"/>
            <a:ext cx="4047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clear 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28195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’ve complained about my Internet browser’s speed, but they say the problem isn’t the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a pronoun doesn’t have any anteced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449568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’ve complained about my Internet browser’s speed, but the tech support people say the problem isn’t the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3526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WH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5562720"/>
            <a:ext cx="3505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057400" y="685800"/>
            <a:ext cx="51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greement in Number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67652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noun must agree with, or match, its antecedent in number just as a verb must agree with its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out for agreement problems in paragraphs as well as individual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ular pronouns ar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m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m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mi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s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i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e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i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e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ral pronouns ar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w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u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ou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o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the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the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thei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thei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057400" y="685800"/>
            <a:ext cx="51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greement in Number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59092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pronoun’s antece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whether the antecedent is singular or pl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e pronoun agrees with it in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9152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52388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o check for agreement in number, follow these three step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5029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mpany posts rules of ethics on their web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410080"/>
            <a:ext cx="12189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54100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4800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mpany posts rules of ethics on its web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6248520"/>
            <a:ext cx="1219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6248520"/>
            <a:ext cx="4572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5638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48769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SI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48769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PL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7150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SI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57150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SI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057400" y="685800"/>
            <a:ext cx="4876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greement in Person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5146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irst pers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, me, mine, we, us, our, 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econd pers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, your, y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ird pers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e, she, it, one, him, her, his, its, they, them, their, the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44792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Personal pronouns must agree in person with their anteced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4800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f a person got caught up on chores, you wouldn’t know what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5181480"/>
            <a:ext cx="1219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51814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4572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5715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f a person got caught up on chores, he or she wouldn’t know what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6095880"/>
            <a:ext cx="1219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6095880"/>
            <a:ext cx="14475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46483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THI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4648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55627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THI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55627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THI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Modif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cribe the people, things, and actions in a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dje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odifiers that describe nouns and pro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76520" y="685800"/>
            <a:ext cx="5648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djectives and Adverb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809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live in th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brick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house down the str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3434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dverb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modifiers that describe verbs, adjectives, and other adver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33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She spok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quietly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09680" y="685800"/>
            <a:ext cx="4334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Modifying Phra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5867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10280" y="4876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3809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5029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How mu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3581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How man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4648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at ki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638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ich 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752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modifying phr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group of words that describes another word in a sentence. It answers the following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09680" y="685800"/>
            <a:ext cx="4334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Modifying Phra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581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o get there on tim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, we have to leav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prepositional phr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word group that starts with a preposition and ends with a noun or a pro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52578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y paycheck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igned by the president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, arrived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52388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several types of modifying phras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42670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verbal phr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a verbal form to describe a 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09680" y="685800"/>
            <a:ext cx="4334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Modifying Phra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5812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Kathy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he coordinator of our book club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, recommends everything written by Margaret Atw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renaming phr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lso called an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ppos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upplies more information about a noun or pronoun in the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1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152388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several types of modifying phras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09680" y="685800"/>
            <a:ext cx="4800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Misplaced Modifier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23623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Galloping across the plains, Louise stood and watched the hor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misplaced modifi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oo far away from the word it describ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124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he modifier closer to the word it describ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0384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Louise stood and watched the horses galloping across the plai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800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he modifying phrase into a dependent cl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57150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s the horses galloped across the plains, Louise stood and w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62920" y="4419720"/>
            <a:ext cx="12952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800600"/>
            <a:ext cx="2514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6095880"/>
            <a:ext cx="60199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09680" y="685800"/>
            <a:ext cx="4438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angling Modifier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24382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Listening to talk radio, a conspiracy seemed almost plau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dangling modifi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a word that should be in the sentence but isn’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429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noun that makes sense and change the wording of the sentence slight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4197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Listening to talk radio, Bob thought that a conspiracy seemed almost plaus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5410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en he listened to talk radio, Bob thought that a conspiracy seemed almost plau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4800600"/>
            <a:ext cx="2514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5791320"/>
            <a:ext cx="2514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5791320"/>
            <a:ext cx="18288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617220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62320" y="685800"/>
            <a:ext cx="4248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arallel Structur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36576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mpany’s ads are directed at children, teens, and young ad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sentence contains a series of nouns or verbs joined by a conjunction, the elements of the series should all have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parallel 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105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30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tee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ng adul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have the same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4114800"/>
            <a:ext cx="1371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4572000"/>
            <a:ext cx="8380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4572000"/>
            <a:ext cx="19047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362320" y="685800"/>
            <a:ext cx="4248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arallel Structur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6576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ike wanted to watch TV, listen to CDs, or going to the mov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eck for parallel structure, look for the conjunction. Then decide what words or phrases the conjunction joins and make sure their forms are ali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502920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ike wanted to watch TV, listen to CDs, or go to the mov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5486400"/>
            <a:ext cx="1371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5486400"/>
            <a:ext cx="19810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5943600"/>
            <a:ext cx="2514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191120"/>
            <a:ext cx="3352680" cy="533160"/>
          </a:xfrm>
          <a:prstGeom prst="ellipse">
            <a:avLst/>
          </a:prstGeom>
          <a:noFill/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42670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Wingdings"/>
                <a:ea typeface="Wingdings"/>
              </a:rPr>
              <a:t>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NOT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56386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Wingdings"/>
                <a:ea typeface="Wingdings"/>
              </a:rPr>
              <a:t>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05-01T16:19:45Z</dcterms:modified>
  <cp:revision>174</cp:revision>
  <dc:subject/>
  <dc:title>No Slide Title</dc:title>
</cp:coreProperties>
</file>