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29B6C-C6B2-41FA-9BA3-417E64EA8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622E8-32AE-4099-87E5-F3D51FCF7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F4E5A-7038-4467-A7D0-306015281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16F5A-804D-4A32-9864-BE1AADFE9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70979-D348-4115-B4E3-D79B47019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FA896-1CC0-4F73-BF8B-56F0F4C3B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6549C-6034-463E-823C-75C54085E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81CD7-6BA3-4251-B86D-CAB5F2032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FA958-5ADC-4FC7-9226-9DF8BF5CC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BECE6-A6E1-429C-B416-F0DB4F08A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EE1AC-413D-420D-9CAA-56084A32A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7C552-853D-4012-9342-4B339E283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DDBAB-E7F7-469B-A82C-248626CC0E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295280" y="251424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CHAPTER 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380880" y="3352680"/>
            <a:ext cx="8372520" cy="142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Comic Sans MS"/>
              </a:rPr>
              <a:t>Using Correct Language</a:t>
            </a:r>
            <a:endParaRPr b="1" lang="en-US" sz="60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43" name=""/>
          <p:cNvSpPr/>
          <p:nvPr/>
        </p:nvSpPr>
        <p:spPr>
          <a:xfrm>
            <a:off x="6172200" y="6172200"/>
            <a:ext cx="2666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029200" y="64008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2 by the McGraw-Hill Companie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5029200" y="64008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2 by the McGraw-Hill Companie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28600" y="15228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50021"/>
                </a:solidFill>
                <a:latin typeface="Arial"/>
              </a:rPr>
              <a:t>CHAPTER 5: Using Correct Langu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2362320" y="685800"/>
            <a:ext cx="404784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mic Sans MS"/>
              </a:rPr>
              <a:t>Unclear Pronouns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mic Sans MS"/>
              <a:ea typeface="Comic Sans MS"/>
            </a:endParaRPr>
          </a:p>
        </p:txBody>
      </p:sp>
      <p:sp>
        <p:nvSpPr>
          <p:cNvPr id="130" name=""/>
          <p:cNvSpPr/>
          <p:nvPr/>
        </p:nvSpPr>
        <p:spPr>
          <a:xfrm>
            <a:off x="1295280" y="3048120"/>
            <a:ext cx="7391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The coach talked to Kobe because he was frustrated by his performa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85800" y="160020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antece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the word to which a pronoun refers. Sometimes it isn’t clear what antecedent a pronoun is referring t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371600" y="4648320"/>
            <a:ext cx="7162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The coach talked to Kobe because the coach was frustrated by Kobe’s performa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477120" y="30481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a50021"/>
                </a:solidFill>
                <a:latin typeface="Arial"/>
              </a:rPr>
              <a:t>WHO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429000" y="358128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a50021"/>
                </a:solidFill>
                <a:latin typeface="Arial"/>
              </a:rPr>
              <a:t>WHO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705720" y="5181480"/>
            <a:ext cx="1523880" cy="0"/>
          </a:xfrm>
          <a:prstGeom prst="line">
            <a:avLst/>
          </a:prstGeom>
          <a:ln w="255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267080" y="5715000"/>
            <a:ext cx="914400" cy="0"/>
          </a:xfrm>
          <a:prstGeom prst="line">
            <a:avLst/>
          </a:prstGeom>
          <a:ln w="255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5029200" y="64008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2 by the McGraw-Hill Companie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" y="15228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50021"/>
                </a:solidFill>
                <a:latin typeface="Arial"/>
              </a:rPr>
              <a:t>CHAPTER 5: Using Correct Langu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2362320" y="685800"/>
            <a:ext cx="404784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mic Sans MS"/>
              </a:rPr>
              <a:t>Unclear Pronouns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mic Sans MS"/>
              <a:ea typeface="Comic Sans MS"/>
            </a:endParaRPr>
          </a:p>
        </p:txBody>
      </p:sp>
      <p:sp>
        <p:nvSpPr>
          <p:cNvPr id="140" name=""/>
          <p:cNvSpPr/>
          <p:nvPr/>
        </p:nvSpPr>
        <p:spPr>
          <a:xfrm>
            <a:off x="1295280" y="2819520"/>
            <a:ext cx="7696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I’ve complained about my Internet browser’s speed, but they say the problem isn’t the mod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85800" y="16002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times a pronoun doesn’t have any anteced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371600" y="4495680"/>
            <a:ext cx="7162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I’ve complained about my Internet browser’s speed, but the tech support people say the problem isn’t the mod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124080" y="3352680"/>
            <a:ext cx="838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a50021"/>
                </a:solidFill>
                <a:latin typeface="Arial"/>
              </a:rPr>
              <a:t>WHO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00400" y="5562720"/>
            <a:ext cx="3505320" cy="0"/>
          </a:xfrm>
          <a:prstGeom prst="line">
            <a:avLst/>
          </a:prstGeom>
          <a:ln w="255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553080" y="1066680"/>
            <a:ext cx="12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Continue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5029200" y="64008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2 by the McGraw-Hill Companie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28600" y="15228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50021"/>
                </a:solidFill>
                <a:latin typeface="Arial"/>
              </a:rPr>
              <a:t>CHAPTER 5: Using Correct Langu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2057400" y="685800"/>
            <a:ext cx="518148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mic Sans MS"/>
              </a:rPr>
              <a:t>Agreement in Number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mic Sans MS"/>
              <a:ea typeface="Comic Sans MS"/>
            </a:endParaRPr>
          </a:p>
        </p:txBody>
      </p:sp>
      <p:sp>
        <p:nvSpPr>
          <p:cNvPr id="149" name=""/>
          <p:cNvSpPr/>
          <p:nvPr/>
        </p:nvSpPr>
        <p:spPr>
          <a:xfrm>
            <a:off x="685800" y="1676520"/>
            <a:ext cx="822960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pronoun must agree with, or match, its antecedent in number just as a verb must agree with its subjec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tch out for agreement problems in paragraphs as well as individual sentenc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ngular pronouns are </a:t>
            </a:r>
            <a:r>
              <a:rPr b="1" i="1" lang="en-US" sz="2800" spc="-1" strike="noStrike">
                <a:solidFill>
                  <a:srgbClr val="660066"/>
                </a:solidFill>
                <a:latin typeface="Comic Sans MS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2800" spc="-1" strike="noStrike">
                <a:solidFill>
                  <a:srgbClr val="660066"/>
                </a:solidFill>
                <a:latin typeface="Comic Sans MS"/>
              </a:rPr>
              <a:t>m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2800" spc="-1" strike="noStrike">
                <a:solidFill>
                  <a:srgbClr val="660066"/>
                </a:solidFill>
                <a:latin typeface="Comic Sans MS"/>
              </a:rPr>
              <a:t>my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2800" spc="-1" strike="noStrike">
                <a:solidFill>
                  <a:srgbClr val="660066"/>
                </a:solidFill>
                <a:latin typeface="Comic Sans MS"/>
              </a:rPr>
              <a:t>min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2800" spc="-1" strike="noStrike">
                <a:solidFill>
                  <a:srgbClr val="660066"/>
                </a:solidFill>
                <a:latin typeface="Comic Sans MS"/>
              </a:rPr>
              <a:t>you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2800" spc="-1" strike="noStrike">
                <a:solidFill>
                  <a:srgbClr val="660066"/>
                </a:solidFill>
                <a:latin typeface="Comic Sans MS"/>
              </a:rPr>
              <a:t>your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2800" spc="-1" strike="noStrike">
                <a:solidFill>
                  <a:srgbClr val="660066"/>
                </a:solidFill>
                <a:latin typeface="Comic Sans MS"/>
              </a:rPr>
              <a:t>yours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2800" spc="-1" strike="noStrike">
                <a:solidFill>
                  <a:srgbClr val="660066"/>
                </a:solidFill>
                <a:latin typeface="Comic Sans MS"/>
              </a:rPr>
              <a:t>h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2800" spc="-1" strike="noStrike">
                <a:solidFill>
                  <a:srgbClr val="660066"/>
                </a:solidFill>
                <a:latin typeface="Comic Sans MS"/>
              </a:rPr>
              <a:t>sh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2800" spc="-1" strike="noStrike">
                <a:solidFill>
                  <a:srgbClr val="660066"/>
                </a:solidFill>
                <a:latin typeface="Comic Sans MS"/>
              </a:rPr>
              <a:t>it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2800" spc="-1" strike="noStrike">
                <a:solidFill>
                  <a:srgbClr val="660066"/>
                </a:solidFill>
                <a:latin typeface="Comic Sans MS"/>
              </a:rPr>
              <a:t>him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2800" spc="-1" strike="noStrike">
                <a:solidFill>
                  <a:srgbClr val="660066"/>
                </a:solidFill>
                <a:latin typeface="Comic Sans MS"/>
              </a:rPr>
              <a:t>her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2800" spc="-1" strike="noStrike">
                <a:solidFill>
                  <a:srgbClr val="660066"/>
                </a:solidFill>
                <a:latin typeface="Comic Sans MS"/>
              </a:rPr>
              <a:t>his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2800" spc="-1" strike="noStrike">
                <a:solidFill>
                  <a:srgbClr val="660066"/>
                </a:solidFill>
                <a:latin typeface="Comic Sans MS"/>
              </a:rPr>
              <a:t>hers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2800" spc="-1" strike="noStrike">
                <a:solidFill>
                  <a:srgbClr val="660066"/>
                </a:solidFill>
                <a:latin typeface="Comic Sans MS"/>
              </a:rPr>
              <a:t>it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ural pronouns are </a:t>
            </a:r>
            <a:r>
              <a:rPr b="1" i="1" lang="en-US" sz="2800" spc="-1" strike="noStrike">
                <a:solidFill>
                  <a:srgbClr val="660066"/>
                </a:solidFill>
                <a:latin typeface="Comic Sans MS"/>
              </a:rPr>
              <a:t>w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2800" spc="-1" strike="noStrike">
                <a:solidFill>
                  <a:srgbClr val="660066"/>
                </a:solidFill>
                <a:latin typeface="Comic Sans MS"/>
              </a:rPr>
              <a:t>us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2800" spc="-1" strike="noStrike">
                <a:solidFill>
                  <a:srgbClr val="660066"/>
                </a:solidFill>
                <a:latin typeface="Comic Sans MS"/>
              </a:rPr>
              <a:t>our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2800" spc="-1" strike="noStrike">
                <a:solidFill>
                  <a:srgbClr val="660066"/>
                </a:solidFill>
                <a:latin typeface="Comic Sans MS"/>
              </a:rPr>
              <a:t>ours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2800" spc="-1" strike="noStrike">
                <a:solidFill>
                  <a:srgbClr val="660066"/>
                </a:solidFill>
                <a:latin typeface="Comic Sans MS"/>
              </a:rPr>
              <a:t>you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2800" spc="-1" strike="noStrike">
                <a:solidFill>
                  <a:srgbClr val="660066"/>
                </a:solidFill>
                <a:latin typeface="Comic Sans MS"/>
              </a:rPr>
              <a:t>your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2800" spc="-1" strike="noStrike">
                <a:solidFill>
                  <a:srgbClr val="660066"/>
                </a:solidFill>
                <a:latin typeface="Comic Sans MS"/>
              </a:rPr>
              <a:t>yours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2800" spc="-1" strike="noStrike">
                <a:solidFill>
                  <a:srgbClr val="660066"/>
                </a:solidFill>
                <a:latin typeface="Comic Sans MS"/>
              </a:rPr>
              <a:t>they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2800" spc="-1" strike="noStrike">
                <a:solidFill>
                  <a:srgbClr val="660066"/>
                </a:solidFill>
                <a:latin typeface="Comic Sans MS"/>
              </a:rPr>
              <a:t>them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2800" spc="-1" strike="noStrike">
                <a:solidFill>
                  <a:srgbClr val="660066"/>
                </a:solidFill>
                <a:latin typeface="Comic Sans MS"/>
              </a:rPr>
              <a:t>their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2800" spc="-1" strike="noStrike">
                <a:solidFill>
                  <a:srgbClr val="660066"/>
                </a:solidFill>
                <a:latin typeface="Comic Sans MS"/>
              </a:rPr>
              <a:t>theirs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5029200" y="64008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2 by the McGraw-Hill Companie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28600" y="15228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50021"/>
                </a:solidFill>
                <a:latin typeface="Arial"/>
              </a:rPr>
              <a:t>CHAPTER 5: Using Correct Langu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2057400" y="685800"/>
            <a:ext cx="518148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mic Sans MS"/>
              </a:rPr>
              <a:t>Agreement in Number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mic Sans MS"/>
              <a:ea typeface="Comic Sans MS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" y="2590920"/>
            <a:ext cx="822960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d the pronoun’s anteced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ide whether the antecedent is singular or plur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 sure the pronoun agrees with it in numb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391520" y="91440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Continue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04920" y="1523880"/>
            <a:ext cx="86104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To check for agreement in number, follow these three steps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" y="502920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The company posts rules of ethics on their websi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19320" y="5410080"/>
            <a:ext cx="1218960" cy="0"/>
          </a:xfrm>
          <a:prstGeom prst="line">
            <a:avLst/>
          </a:prstGeom>
          <a:ln w="255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248520" y="5410080"/>
            <a:ext cx="685800" cy="0"/>
          </a:xfrm>
          <a:prstGeom prst="line">
            <a:avLst/>
          </a:prstGeom>
          <a:ln w="255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657600" y="4800600"/>
            <a:ext cx="152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a50021"/>
                </a:solidFill>
                <a:latin typeface="Arial"/>
              </a:rPr>
              <a:t>INCORR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33520" y="586728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The company posts rules of ethics on its websi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295280" y="6248520"/>
            <a:ext cx="1219320" cy="0"/>
          </a:xfrm>
          <a:prstGeom prst="line">
            <a:avLst/>
          </a:prstGeom>
          <a:ln w="255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248520" y="6248520"/>
            <a:ext cx="457200" cy="0"/>
          </a:xfrm>
          <a:prstGeom prst="line">
            <a:avLst/>
          </a:prstGeom>
          <a:ln w="255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809880" y="5638680"/>
            <a:ext cx="1524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a50021"/>
                </a:solidFill>
                <a:latin typeface="Arial"/>
              </a:rPr>
              <a:t>CORR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219320" y="4876920"/>
            <a:ext cx="152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a50021"/>
                </a:solidFill>
                <a:latin typeface="Arial"/>
              </a:rPr>
              <a:t>SINGUL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172200" y="4876920"/>
            <a:ext cx="106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a50021"/>
                </a:solidFill>
                <a:latin typeface="Arial"/>
              </a:rPr>
              <a:t>PLU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295280" y="5715000"/>
            <a:ext cx="1524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a50021"/>
                </a:solidFill>
                <a:latin typeface="Arial"/>
              </a:rPr>
              <a:t>SINGUL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867280" y="5715000"/>
            <a:ext cx="1524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a50021"/>
                </a:solidFill>
                <a:latin typeface="Arial"/>
              </a:rPr>
              <a:t>SINGUL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5029200" y="64008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2 by the McGraw-Hill Companie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28600" y="15228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50021"/>
                </a:solidFill>
                <a:latin typeface="Arial"/>
              </a:rPr>
              <a:t>CHAPTER 5: Using Correct Langu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2057400" y="685800"/>
            <a:ext cx="487692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mic Sans MS"/>
              </a:rPr>
              <a:t>Agreement in Person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mic Sans MS"/>
              <a:ea typeface="Comic Sans MS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2514600"/>
            <a:ext cx="822960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First person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660066"/>
                </a:solidFill>
                <a:latin typeface="Comic Sans MS"/>
              </a:rPr>
              <a:t>I, me, mine, we, us, our, ou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Second person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660066"/>
                </a:solidFill>
                <a:latin typeface="Comic Sans MS"/>
              </a:rPr>
              <a:t>you, your, you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Third person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660066"/>
                </a:solidFill>
                <a:latin typeface="Comic Sans MS"/>
              </a:rPr>
              <a:t>he, she, it, one, him, her, his, its, they, them, their, thei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04920" y="1447920"/>
            <a:ext cx="86104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Personal pronouns must agree in person with their antecedent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57200" y="480060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If a person got caught up on chores, you wouldn’t know what to 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066680" y="5181480"/>
            <a:ext cx="1219320" cy="0"/>
          </a:xfrm>
          <a:prstGeom prst="line">
            <a:avLst/>
          </a:prstGeom>
          <a:ln w="255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095880" y="5181480"/>
            <a:ext cx="685800" cy="0"/>
          </a:xfrm>
          <a:prstGeom prst="line">
            <a:avLst/>
          </a:prstGeom>
          <a:ln w="255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657600" y="4572000"/>
            <a:ext cx="152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a50021"/>
                </a:solidFill>
                <a:latin typeface="Arial"/>
              </a:rPr>
              <a:t>INCORR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571500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If a person got caught up on chores, he or she wouldn’t know what to 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066680" y="6095880"/>
            <a:ext cx="1219320" cy="0"/>
          </a:xfrm>
          <a:prstGeom prst="line">
            <a:avLst/>
          </a:prstGeom>
          <a:ln w="255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248520" y="6095880"/>
            <a:ext cx="1447560" cy="0"/>
          </a:xfrm>
          <a:prstGeom prst="line">
            <a:avLst/>
          </a:prstGeom>
          <a:ln w="255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9880" y="5486400"/>
            <a:ext cx="1524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a50021"/>
                </a:solidFill>
                <a:latin typeface="Arial"/>
              </a:rPr>
              <a:t>CORR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219320" y="4648320"/>
            <a:ext cx="121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a50021"/>
                </a:solidFill>
                <a:latin typeface="Arial"/>
              </a:rPr>
              <a:t>THI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095880" y="4648320"/>
            <a:ext cx="106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a50021"/>
                </a:solidFill>
                <a:latin typeface="Arial"/>
              </a:rPr>
              <a:t>FIR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19320" y="5562720"/>
            <a:ext cx="121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a50021"/>
                </a:solidFill>
                <a:latin typeface="Arial"/>
              </a:rPr>
              <a:t>THI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553080" y="556272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a50021"/>
                </a:solidFill>
                <a:latin typeface="Arial"/>
              </a:rPr>
              <a:t>THI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285640" y="2286000"/>
            <a:ext cx="47242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a50021"/>
                </a:solidFill>
                <a:latin typeface="Impact"/>
              </a:rPr>
              <a:t>THE END</a:t>
            </a:r>
            <a:endParaRPr b="0" lang="en-US" sz="7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762120" y="3733920"/>
            <a:ext cx="7619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actice the skills you learned in this chapter by taking the </a:t>
            </a: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Chapter Review Quiz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r the </a:t>
            </a: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GED Practice Quiz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28600" y="15228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50021"/>
                </a:solidFill>
                <a:latin typeface="Arial"/>
              </a:rPr>
              <a:t>CHAPTER 5: Using Correct Langu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029200" y="64008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2 by the McGraw-Hill Companie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029200" y="64008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2 by the McGraw-Hill Companie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685800" y="1904760"/>
            <a:ext cx="7772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Modifi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escribe the people, things, and actions in a senten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Adjectiv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re modifiers that describe nouns and pronou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15228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50021"/>
                </a:solidFill>
                <a:latin typeface="Arial"/>
              </a:rPr>
              <a:t>CHAPTER 5: Using Correct Langu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1676520" y="685800"/>
            <a:ext cx="564804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mic Sans MS"/>
              </a:rPr>
              <a:t>Adjectives and Adverbs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mic Sans MS"/>
              <a:ea typeface="Comic Sans MS"/>
            </a:endParaRPr>
          </a:p>
        </p:txBody>
      </p:sp>
      <p:sp>
        <p:nvSpPr>
          <p:cNvPr id="49" name=""/>
          <p:cNvSpPr/>
          <p:nvPr/>
        </p:nvSpPr>
        <p:spPr>
          <a:xfrm>
            <a:off x="1371600" y="380988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I live in the </a:t>
            </a:r>
            <a:r>
              <a:rPr b="1" i="1" lang="en-US" sz="2400" spc="-1" strike="noStrike" u="sng">
                <a:solidFill>
                  <a:srgbClr val="660066"/>
                </a:solidFill>
                <a:uFillTx/>
                <a:latin typeface="Comic Sans MS"/>
              </a:rPr>
              <a:t>brick</a:t>
            </a: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 house down the stre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85800" y="434340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Adverb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 modifiers that describe verbs, adjectives, and other adverb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371600" y="533412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She spoke </a:t>
            </a:r>
            <a:r>
              <a:rPr b="1" i="1" lang="en-US" sz="2400" spc="-1" strike="noStrike" u="sng">
                <a:solidFill>
                  <a:srgbClr val="660066"/>
                </a:solidFill>
                <a:uFillTx/>
                <a:latin typeface="Comic Sans MS"/>
              </a:rPr>
              <a:t>quietly</a:t>
            </a: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5029200" y="64008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2 by the McGraw-Hill Companie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28600" y="15228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50021"/>
                </a:solidFill>
                <a:latin typeface="Arial"/>
              </a:rPr>
              <a:t>CHAPTER 5: Using Correct Langu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2209680" y="685800"/>
            <a:ext cx="433404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mic Sans MS"/>
              </a:rPr>
              <a:t>Modifying Phrases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mic Sans MS"/>
              <a:ea typeface="Comic Sans MS"/>
            </a:endParaRPr>
          </a:p>
        </p:txBody>
      </p:sp>
      <p:sp>
        <p:nvSpPr>
          <p:cNvPr id="55" name=""/>
          <p:cNvSpPr/>
          <p:nvPr/>
        </p:nvSpPr>
        <p:spPr>
          <a:xfrm>
            <a:off x="685800" y="32767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Wh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523880" y="586728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Wh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648320" y="41148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Whe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010280" y="487692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Wher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286000" y="38098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How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048120" y="502920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How much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477120" y="358128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How man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04920" y="464832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What kin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029200" y="563868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Which on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85800" y="175248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modifying phra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 group of words that describes another word in a sentence. It answers the following ques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5029200" y="64008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2 by the McGraw-Hill Companie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28600" y="15228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50021"/>
                </a:solidFill>
                <a:latin typeface="Arial"/>
              </a:rPr>
              <a:t>CHAPTER 5: Using Correct Langu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2209680" y="685800"/>
            <a:ext cx="433404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mic Sans MS"/>
              </a:rPr>
              <a:t>Modifying Phrases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mic Sans MS"/>
              <a:ea typeface="Comic Sans MS"/>
            </a:endParaRPr>
          </a:p>
        </p:txBody>
      </p:sp>
      <p:sp>
        <p:nvSpPr>
          <p:cNvPr id="68" name=""/>
          <p:cNvSpPr/>
          <p:nvPr/>
        </p:nvSpPr>
        <p:spPr>
          <a:xfrm>
            <a:off x="1371600" y="358128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660066"/>
                </a:solidFill>
                <a:uFillTx/>
                <a:latin typeface="Comic Sans MS"/>
              </a:rPr>
              <a:t>To get there on time</a:t>
            </a: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, we have to leave 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13372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 prepositional phras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a word group that starts with a preposition and ends with a noun or a pronou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371600" y="525780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My paycheck, </a:t>
            </a:r>
            <a:r>
              <a:rPr b="1" i="1" lang="en-US" sz="2400" spc="-1" strike="noStrike" u="sng">
                <a:solidFill>
                  <a:srgbClr val="660066"/>
                </a:solidFill>
                <a:uFillTx/>
                <a:latin typeface="Comic Sans MS"/>
              </a:rPr>
              <a:t>signed by the president</a:t>
            </a: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, arrived yester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781680" y="914400"/>
            <a:ext cx="12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Continue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04920" y="1523880"/>
            <a:ext cx="8610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There are several types of modifying phrases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09480" y="42670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 verbal phras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a verbal form to describe a nou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5029200" y="64008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2 by the McGraw-Hill Companie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28600" y="15228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50021"/>
                </a:solidFill>
                <a:latin typeface="Arial"/>
              </a:rPr>
              <a:t>CHAPTER 5: Using Correct Langu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2209680" y="685800"/>
            <a:ext cx="433404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mic Sans MS"/>
              </a:rPr>
              <a:t>Modifying Phrases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mic Sans MS"/>
              <a:ea typeface="Comic Sans MS"/>
            </a:endParaRPr>
          </a:p>
        </p:txBody>
      </p:sp>
      <p:sp>
        <p:nvSpPr>
          <p:cNvPr id="77" name=""/>
          <p:cNvSpPr/>
          <p:nvPr/>
        </p:nvSpPr>
        <p:spPr>
          <a:xfrm>
            <a:off x="1371600" y="3581280"/>
            <a:ext cx="685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Kathy, </a:t>
            </a:r>
            <a:r>
              <a:rPr b="1" i="1" lang="en-US" sz="2400" spc="-1" strike="noStrike" u="sng">
                <a:solidFill>
                  <a:srgbClr val="660066"/>
                </a:solidFill>
                <a:uFillTx/>
                <a:latin typeface="Comic Sans MS"/>
              </a:rPr>
              <a:t>the coordinator of our book club</a:t>
            </a: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, recommends everything written by Margaret Atwoo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 renaming phras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also called an </a:t>
            </a: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appositiv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supplies more information about a noun or pronoun in the senten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781680" y="914400"/>
            <a:ext cx="12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Continue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04920" y="1523880"/>
            <a:ext cx="8610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There are several types of modifying phrases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5029200" y="64008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2 by the McGraw-Hill Companie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15228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50021"/>
                </a:solidFill>
                <a:latin typeface="Arial"/>
              </a:rPr>
              <a:t>CHAPTER 5: Using Correct Langu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2209680" y="685800"/>
            <a:ext cx="480060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mic Sans MS"/>
              </a:rPr>
              <a:t>Misplaced Modifiers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mic Sans MS"/>
              <a:ea typeface="Comic Sans MS"/>
            </a:endParaRPr>
          </a:p>
        </p:txBody>
      </p:sp>
      <p:sp>
        <p:nvSpPr>
          <p:cNvPr id="84" name=""/>
          <p:cNvSpPr/>
          <p:nvPr/>
        </p:nvSpPr>
        <p:spPr>
          <a:xfrm>
            <a:off x="1371600" y="2362320"/>
            <a:ext cx="7391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Galloping across the plains, Louise stood and watched the hors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85800" y="1447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 misplaced modifie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too far away from the word it describ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312408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ve the modifier closer to the word it describ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447920" y="4038480"/>
            <a:ext cx="7391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Louise stood and watched the horses galloping across the plai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480060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urn the modifying phrase into a dependent claus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447920" y="5715000"/>
            <a:ext cx="7391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As the horses galloped across the plains, Louise stood and watch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162920" y="4419720"/>
            <a:ext cx="1295280" cy="0"/>
          </a:xfrm>
          <a:prstGeom prst="line">
            <a:avLst/>
          </a:prstGeom>
          <a:ln w="255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523880" y="4800600"/>
            <a:ext cx="2514600" cy="0"/>
          </a:xfrm>
          <a:prstGeom prst="line">
            <a:avLst/>
          </a:prstGeom>
          <a:ln w="255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523880" y="6095880"/>
            <a:ext cx="6019920" cy="0"/>
          </a:xfrm>
          <a:prstGeom prst="line">
            <a:avLst/>
          </a:prstGeom>
          <a:ln w="255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5029200" y="64008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2 by the McGraw-Hill Companie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15228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50021"/>
                </a:solidFill>
                <a:latin typeface="Arial"/>
              </a:rPr>
              <a:t>CHAPTER 5: Using Correct Langu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2209680" y="685800"/>
            <a:ext cx="443880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mic Sans MS"/>
              </a:rPr>
              <a:t>Dangling Modifiers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mic Sans MS"/>
              <a:ea typeface="Comic Sans MS"/>
            </a:endParaRPr>
          </a:p>
        </p:txBody>
      </p:sp>
      <p:sp>
        <p:nvSpPr>
          <p:cNvPr id="96" name=""/>
          <p:cNvSpPr/>
          <p:nvPr/>
        </p:nvSpPr>
        <p:spPr>
          <a:xfrm>
            <a:off x="1371600" y="2438280"/>
            <a:ext cx="7391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Listening to talk radio, a conspiracy seemed almost plausi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85800" y="1447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 dangling modifie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bes a word that should be in the sentence but isn’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85800" y="342900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a noun that makes sense and change the wording of the sentence slightl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447920" y="4419720"/>
            <a:ext cx="7391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Listening to talk radio, Bob thought that a conspiracy seemed almost plausibl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5410080"/>
            <a:ext cx="7391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When he listened to talk radio, Bob thought that a conspiracy seemed almost plausi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105520" y="4800600"/>
            <a:ext cx="2514600" cy="0"/>
          </a:xfrm>
          <a:prstGeom prst="line">
            <a:avLst/>
          </a:prstGeom>
          <a:ln w="255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523880" y="5791320"/>
            <a:ext cx="2514600" cy="0"/>
          </a:xfrm>
          <a:prstGeom prst="line">
            <a:avLst/>
          </a:prstGeom>
          <a:ln w="255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324480" y="5791320"/>
            <a:ext cx="1828800" cy="0"/>
          </a:xfrm>
          <a:prstGeom prst="line">
            <a:avLst/>
          </a:prstGeom>
          <a:ln w="255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6172200"/>
            <a:ext cx="685800" cy="0"/>
          </a:xfrm>
          <a:prstGeom prst="line">
            <a:avLst/>
          </a:prstGeom>
          <a:ln w="255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5029200" y="64008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2 by the McGraw-Hill Companie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" y="15228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50021"/>
                </a:solidFill>
                <a:latin typeface="Arial"/>
              </a:rPr>
              <a:t>CHAPTER 5: Using Correct Langu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2362320" y="685800"/>
            <a:ext cx="424800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mic Sans MS"/>
              </a:rPr>
              <a:t>Parallel Structure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mic Sans MS"/>
              <a:ea typeface="Comic Sans MS"/>
            </a:endParaRPr>
          </a:p>
        </p:txBody>
      </p:sp>
      <p:sp>
        <p:nvSpPr>
          <p:cNvPr id="108" name=""/>
          <p:cNvSpPr/>
          <p:nvPr/>
        </p:nvSpPr>
        <p:spPr>
          <a:xfrm>
            <a:off x="1523880" y="3657600"/>
            <a:ext cx="7391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The company’s ads are directed at children, teens, and young adul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a sentence contains a series of nouns or verbs joined by a conjunction, the elements of the series should all have</a:t>
            </a: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 parallel struc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85800" y="51055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30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0066"/>
                </a:solidFill>
                <a:latin typeface="Comic Sans MS"/>
              </a:rPr>
              <a:t>Childre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2800" spc="-1" strike="noStrike">
                <a:solidFill>
                  <a:srgbClr val="660066"/>
                </a:solidFill>
                <a:latin typeface="Comic Sans MS"/>
              </a:rPr>
              <a:t>tee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i="1" lang="en-US" sz="2800" spc="-1" strike="noStrike">
                <a:solidFill>
                  <a:srgbClr val="660066"/>
                </a:solidFill>
                <a:latin typeface="Comic Sans MS"/>
              </a:rPr>
              <a:t>young adult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ll have the same for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858000" y="4114800"/>
            <a:ext cx="1371600" cy="0"/>
          </a:xfrm>
          <a:prstGeom prst="line">
            <a:avLst/>
          </a:prstGeom>
          <a:ln w="255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4572000"/>
            <a:ext cx="838080" cy="0"/>
          </a:xfrm>
          <a:prstGeom prst="line">
            <a:avLst/>
          </a:prstGeom>
          <a:ln w="255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276720" y="4572000"/>
            <a:ext cx="1904760" cy="0"/>
          </a:xfrm>
          <a:prstGeom prst="line">
            <a:avLst/>
          </a:prstGeom>
          <a:ln w="255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5029200" y="64008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2 by the McGraw-Hill Companie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28600" y="15228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50021"/>
                </a:solidFill>
                <a:latin typeface="Arial"/>
              </a:rPr>
              <a:t>CHAPTER 5: Using Correct Langu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362320" y="685800"/>
            <a:ext cx="424800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mic Sans MS"/>
              </a:rPr>
              <a:t>Parallel Structure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mic Sans MS"/>
              <a:ea typeface="Comic Sans MS"/>
            </a:endParaRPr>
          </a:p>
        </p:txBody>
      </p:sp>
      <p:sp>
        <p:nvSpPr>
          <p:cNvPr id="117" name=""/>
          <p:cNvSpPr/>
          <p:nvPr/>
        </p:nvSpPr>
        <p:spPr>
          <a:xfrm>
            <a:off x="1295280" y="3657600"/>
            <a:ext cx="7391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Mike wanted to watch TV, listen to CDs, or going to the mov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check for parallel structure, look for the conjunction. Then decide what words or phrases the conjunction joins and make sure their forms are alik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781680" y="1066680"/>
            <a:ext cx="12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Continue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371600" y="5029200"/>
            <a:ext cx="6781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Mike wanted to watch TV, listen to CDs, or go to the mov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886200" y="5486400"/>
            <a:ext cx="1371600" cy="0"/>
          </a:xfrm>
          <a:prstGeom prst="line">
            <a:avLst/>
          </a:prstGeom>
          <a:ln w="255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5486400"/>
            <a:ext cx="1981080" cy="0"/>
          </a:xfrm>
          <a:prstGeom prst="line">
            <a:avLst/>
          </a:prstGeom>
          <a:ln w="255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371600" y="5943600"/>
            <a:ext cx="2514600" cy="0"/>
          </a:xfrm>
          <a:prstGeom prst="line">
            <a:avLst/>
          </a:prstGeom>
          <a:ln w="255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143000" y="4191120"/>
            <a:ext cx="3352680" cy="533160"/>
          </a:xfrm>
          <a:prstGeom prst="ellipse">
            <a:avLst/>
          </a:prstGeom>
          <a:noFill/>
          <a:ln w="255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724280" y="4267080"/>
            <a:ext cx="221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a50021"/>
                </a:solidFill>
                <a:latin typeface="Wingdings"/>
                <a:ea typeface="Wingdings"/>
              </a:rPr>
              <a:t></a:t>
            </a:r>
            <a:r>
              <a:rPr b="1" lang="en-US" sz="16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a50021"/>
                </a:solidFill>
                <a:latin typeface="Arial"/>
              </a:rPr>
              <a:t>NOT PARALL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343400" y="5638680"/>
            <a:ext cx="220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a50021"/>
                </a:solidFill>
                <a:latin typeface="Wingdings"/>
                <a:ea typeface="Wingdings"/>
              </a:rPr>
              <a:t></a:t>
            </a:r>
            <a:r>
              <a:rPr b="1" lang="en-US" sz="16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a50021"/>
                </a:solidFill>
                <a:latin typeface="Arial"/>
              </a:rPr>
              <a:t>PARALL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7T20:27:45Z</dcterms:created>
  <dc:creator>jennifer_krasula</dc:creator>
  <dc:description/>
  <dc:language>en-US</dc:language>
  <cp:lastModifiedBy>jennifer_krasula</cp:lastModifiedBy>
  <dcterms:modified xsi:type="dcterms:W3CDTF">2002-05-01T16:19:45Z</dcterms:modified>
  <cp:revision>174</cp:revision>
  <dc:subject/>
  <dc:title>No Slide Title</dc:title>
</cp:coreProperties>
</file>