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CAD-DB52-4CB3-B006-73ACCD98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E3A-B100-4907-B6D7-1B0367D8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0C21-87A7-4E04-819A-1A65CB2C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B42A-573D-41E4-98FC-9B0F5607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AF4E-AD07-4D4D-9F40-C5EC6FCF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6A9-A0C3-4120-9F6A-8223CE57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0C57-CAA1-4D96-A6D4-FB0D18D5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CBCE-EA88-432C-9140-3D884132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7286-67AD-4C84-9B42-4FB9FA62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5C5F-FEF3-4E8B-A8A8-91715880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C6B-9A7E-4A63-86FD-D4C6042B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7F3-1EFC-4B36-B2AA-E8EE33B0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094F-05B7-45A7-9D5B-7DB617EFC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3352680"/>
            <a:ext cx="837252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Using Correct Language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362320" y="685800"/>
            <a:ext cx="4047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nclear 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30481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coach talked to Kobe because he was frustrated by his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ntece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word to which a pronoun refers. Sometimes it isn’t clear what antecedent a pronoun is referring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6483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coach talked to Kobe because the coach was frustrated by Kobe’s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3048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WH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3581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WH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5181480"/>
            <a:ext cx="152388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715000"/>
            <a:ext cx="9144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362320" y="685800"/>
            <a:ext cx="4047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nclear 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28195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’ve complained about my Internet browser’s speed, but they say the problem isn’t the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a pronoun doesn’t have any anteced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449568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’ve complained about my Internet browser’s speed, but the tech support people say the problem isn’t the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33526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WH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5562720"/>
            <a:ext cx="35053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057400" y="685800"/>
            <a:ext cx="51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greement in Number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676520"/>
            <a:ext cx="8229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noun must agree with, or match, its antecedent in number just as a verb must agree with its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out for agreement problems in paragraphs as well as individual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ular pronouns ar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m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m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mi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s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him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he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hi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he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ral pronouns ar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w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u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ou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ou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the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them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thei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thei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057400" y="685800"/>
            <a:ext cx="51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greement in Number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59092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pronoun’s antece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whether the antecedent is singular or pl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e pronoun agrees with it in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9152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52388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o check for agreement in number, follow these three step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5029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company posts rules of ethics on their web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410080"/>
            <a:ext cx="121896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54100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4800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company posts rules of ethics on its web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6248520"/>
            <a:ext cx="12193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6248520"/>
            <a:ext cx="4572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5638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48769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SI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48769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PL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7150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SI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57150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SI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057400" y="685800"/>
            <a:ext cx="4876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greement in Person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5146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First pers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, me, mine, we, us, our, 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econd pers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, your, y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ird pers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he, she, it, one, him, her, his, its, they, them, their, the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44792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Personal pronouns must agree in person with their anteced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4800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f a person got caught up on chores, you wouldn’t know what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5181480"/>
            <a:ext cx="12193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51814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45720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5715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f a person got caught up on chores, he or she wouldn’t know what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6095880"/>
            <a:ext cx="12193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6095880"/>
            <a:ext cx="144756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54864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46483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THI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4648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55627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THI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55627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THI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Modifi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cribe the people, things, and actions in a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dje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modifiers that describe nouns and pro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76520" y="685800"/>
            <a:ext cx="5648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djectives and Adverb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809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live in th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brick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house down the str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43434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dverb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modifiers that describe verbs, adjectives, and other adver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334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She spok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quietly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09680" y="685800"/>
            <a:ext cx="4334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Modifying Phra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5867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10280" y="4876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3809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5029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How mu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3581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How man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4648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at ki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638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ich 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752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modifying phr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group of words that describes another word in a sentence. It answers the following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09680" y="685800"/>
            <a:ext cx="4334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Modifying Phra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581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o get there on time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, we have to leav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prepositional phr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word group that starts with a preposition and ends with a noun or a pro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52578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y paycheck,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igned by the president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, arrived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52388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several types of modifying phras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42670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verbal phr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a verbal form to describe a 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09680" y="685800"/>
            <a:ext cx="4334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Modifying Phra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5812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Kathy,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he coordinator of our book club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, recommends everything written by Margaret Atw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renaming phr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lso called an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ppos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upplies more information about a noun or pronoun in the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16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152388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several types of modifying phras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09680" y="685800"/>
            <a:ext cx="4800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Misplaced Modifier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23623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Galloping across the plains, Louise stood and watched the hor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misplaced modifi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oo far away from the word it describ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124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he modifier closer to the word it describ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403848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Louise stood and watched the horses galloping across the plai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800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the modifying phrase into a dependent cl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57150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As the horses galloped across the plains, Louise stood and w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62920" y="4419720"/>
            <a:ext cx="129528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4800600"/>
            <a:ext cx="25146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6095880"/>
            <a:ext cx="60199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09680" y="685800"/>
            <a:ext cx="4438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angling Modifier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24382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Listening to talk radio, a conspiracy seemed almost plau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dangling modifi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a word that should be in the sentence but isn’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429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noun that makes sense and change the wording of the sentence slight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4197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Listening to talk radio, Bob thought that a conspiracy seemed almost plaus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5410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en he listened to talk radio, Bob thought that a conspiracy seemed almost plau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4800600"/>
            <a:ext cx="25146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5791320"/>
            <a:ext cx="25146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5791320"/>
            <a:ext cx="18288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617220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62320" y="685800"/>
            <a:ext cx="4248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arallel Structur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36576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company’s ads are directed at children, teens, and young ad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sentence contains a series of nouns or verbs joined by a conjunction, the elements of the series should all have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parallel stru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105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30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tee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ng adul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 have the same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4114800"/>
            <a:ext cx="13716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4572000"/>
            <a:ext cx="83808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4572000"/>
            <a:ext cx="190476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362320" y="685800"/>
            <a:ext cx="4248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arallel Structur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36576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ike wanted to watch TV, listen to CDs, or going to the mov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eck for parallel structure, look for the conjunction. Then decide what words or phrases the conjunction joins and make sure their forms are ali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502920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ike wanted to watch TV, listen to CDs, or go to the mov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5486400"/>
            <a:ext cx="13716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5486400"/>
            <a:ext cx="198108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5943600"/>
            <a:ext cx="25146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4191120"/>
            <a:ext cx="3352680" cy="533160"/>
          </a:xfrm>
          <a:prstGeom prst="ellipse">
            <a:avLst/>
          </a:prstGeom>
          <a:noFill/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42670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Wingdings"/>
                <a:ea typeface="Wingdings"/>
              </a:rPr>
              <a:t>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NOT 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56386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Wingdings"/>
                <a:ea typeface="Wingdings"/>
              </a:rPr>
              <a:t>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05-01T16:19:45Z</dcterms:modified>
  <cp:revision>174</cp:revision>
  <dc:subject/>
  <dc:title>No Slide Title</dc:title>
</cp:coreProperties>
</file>