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E74-28FC-4423-B56C-FB64BB72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B96-4D7E-4623-AFC9-81A0812B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7AE-758F-49AC-90C7-8C80FCBD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D1D-E163-4991-A4BF-85B22957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858-17C5-433D-AF99-1C2385CD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F24-DA5C-4560-9D01-DCEF22FF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747-FAF5-475A-AB04-C1FAA3C2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DEB-ACF1-4B83-8ACE-C007037C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15F-74D2-480A-8FC2-41D15127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28D-B082-4BB9-BA14-30A9B14D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A1B-0693-4B94-8D79-DE1884DD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7AB-73EB-4914-86EC-7579EE7E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5BA8-B11F-41CA-9668-862A11FF6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352680"/>
            <a:ext cx="83725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sing Correct Language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362320" y="685800"/>
            <a:ext cx="404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clear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048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ch talked to Kobe because he was frustrated by hi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ntece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word to which a pronoun refers. Sometimes it isn’t clear what antecedent a pronoun is referring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648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ch talked to Kobe because the coach was frustrated by Kobe’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048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3581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5181480"/>
            <a:ext cx="15238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715000"/>
            <a:ext cx="9144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362320" y="685800"/>
            <a:ext cx="404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clear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819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’ve complained about my Internet browser’s speed, but they say the problem isn’t the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a pronoun doesn’t have any antece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956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’ve complained about my Internet browser’s speed, but the tech support people say the problem isn’t the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3526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5562720"/>
            <a:ext cx="3505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57400" y="68580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Numb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6765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ust agree with, or match, its antecedent in number just as a verb must agree with its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agreement problems in paragraphs as well as individual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pronouns ar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i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 pronouns ar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i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i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57400" y="68580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Numb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5909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pronoun’s antece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ther the antecedent is singular or pl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pronoun agrees with it in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52388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o check for agreement in number, follow these three step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 posts rules of ethics on their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410080"/>
            <a:ext cx="12189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5410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 posts rules of ethics on it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624852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6248520"/>
            <a:ext cx="4572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5638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876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4876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057400" y="685800"/>
            <a:ext cx="4876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Pers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5146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irst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, me, mine, we, us, our, 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econd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, your, y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ird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, she, it, one, him, her, his, its, they, them, their, the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4479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ersonal pronouns must agree in person with their anteced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800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a person got caught up on chores, you wouldn’t know what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51814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51814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4572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a person got caught up on chores, he or she wouldn’t know what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0958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6095880"/>
            <a:ext cx="14475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4648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4648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55627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562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od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the people, things, and actions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odifiers that describe nouns and pro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76520" y="685800"/>
            <a:ext cx="5648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djectives and Ad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09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live in 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bric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ouse down the str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d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odifiers that describe verbs, adjectives, and other ad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he spok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quietly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867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502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3581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 m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648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at ki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ich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odifying phr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describes another word in a sentence. It answers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o get there on tim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we have to leav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prepositional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word group that starts with a preposition and ends with a noun or a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257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paycheck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igned by the presiden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arrived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38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types of modifying phra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verbal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verbal form to describe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581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athy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 coordinator of our book club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recommends everything written by Margaret Atw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renaming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so called 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p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pplies more information about a noun or pronoun in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5238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types of modifying phra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09680" y="685800"/>
            <a:ext cx="4800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isplaced Modifi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362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alloping across the plains, Louise stood and watched the ho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misplaced mod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oo far away from the word it describ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124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modifier closer to the word it describ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0384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ouise stood and watched the horses galloping across the pla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800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modifying phrase into a dependent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5715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s the horses galloped across the plains, Louise stood and w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4419720"/>
            <a:ext cx="12952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800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6095880"/>
            <a:ext cx="60199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09680" y="685800"/>
            <a:ext cx="4438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angling Modifi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4382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istening to talk radio, a conspiracy seemed almost plau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dangling mod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word that should be in the sentence but isn’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noun that makes sense and change the wording of the sentence sligh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419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istening to talk radio, Bob thought that a conspiracy seemed almost plau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 he listened to talk radio, Bob thought that a conspiracy seemed almost plau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800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79132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791320"/>
            <a:ext cx="1828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61722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685800"/>
            <a:ext cx="4248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allel Structur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6576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’s ads are directed at children, teens, and young ad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entence contains a series of nouns or verbs joined by a conjunction, the elements of the series should all hav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parallel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105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3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e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ng adu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have the same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114800"/>
            <a:ext cx="1371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4572000"/>
            <a:ext cx="838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572000"/>
            <a:ext cx="19047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62320" y="685800"/>
            <a:ext cx="4248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allel Structur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6576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ke wanted to watch TV, listen to CDs, or going to the mov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eck for parallel structure, look for the conjunction. Then decide what words or phrases the conjunction joins and make sure their forms are a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50292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ke wanted to watch TV, listen to CDs, or go to the mov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5486400"/>
            <a:ext cx="1371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5486400"/>
            <a:ext cx="1981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5943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191120"/>
            <a:ext cx="3352680" cy="533160"/>
          </a:xfrm>
          <a:prstGeom prst="ellipse">
            <a:avLst/>
          </a:pr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267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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NOT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56386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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6:19:45Z</dcterms:modified>
  <cp:revision>174</cp:revision>
  <dc:subject/>
  <dc:title>No Slide Title</dc:title>
</cp:coreProperties>
</file>