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7EAB-744C-4686-8BFC-377FC52B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453F-9800-4327-8339-14A634EB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6A28-4812-41BF-B42A-EF71671C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60B7-B591-4DEF-B5BD-7EF816D4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A792-37AB-4487-B13E-91D8BC7A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A632-0D0E-4424-B2E6-DF521C36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3B54-EE3B-4583-A485-3F82AF55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CB97-0A76-49CA-81AE-C47B1AEB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5116-C05F-4B0B-8014-86CF36E6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DB86-5231-4DDE-A432-3B73D726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C730-7ECC-43B0-BD11-1ABE96EA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7BB5-70C3-49CF-92DC-6DE506B4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8D0C-BBC1-442D-B181-F29C1FC36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3352680"/>
            <a:ext cx="8191800" cy="156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Combining Sentences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85800"/>
            <a:ext cx="78868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ependent Clauses in a Paragraph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7696080" y="13716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7524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Find and correct the sentence fragments in the following paragraph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2971800"/>
            <a:ext cx="769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efore there wa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r Wars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.T.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There were books about distant civilizations and extra terrestrial beings. Many people act as if science fiction movies are incredibly original, yet they draw on a long tradition of books and short stories. No one believed humans would ever walk on the Moon. When Jules Verne first wrote about a trip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3429000"/>
            <a:ext cx="167652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5562720"/>
            <a:ext cx="190476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685800"/>
            <a:ext cx="78868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ependent Clauses in a Paragraph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13716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7524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Here is the same paragraph written correctl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2971800"/>
            <a:ext cx="769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efore there wa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r Wars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E.T.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, there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were books about distant civilizations and extra terrestrial beings. Many people act as if science fiction movies are incredibly original, yet they draw on a long tradition of books and short stories. No one believed humans would ever walk on the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oon when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Jules Verne first wrote about a trip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mma spl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error in which two clauses are incorrectly joined by a comma without a conj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666880" y="685800"/>
            <a:ext cx="3448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ma Spli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32767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Incorrec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Lin painted the living room today, she will do the hallwa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43434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rrec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Lin painted the living room today,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and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she will do the hallwa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53341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rrec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Lin painted the living room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today. She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will do the hallwa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e linking word you use is really a conjunction. For example, the word </a:t>
            </a:r>
            <a:r>
              <a:rPr b="1" i="1" lang="en-US" sz="2800" spc="-1" strike="noStrike">
                <a:solidFill>
                  <a:srgbClr val="a50021"/>
                </a:solidFill>
                <a:latin typeface="Comic Sans MS"/>
              </a:rPr>
              <a:t>howe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a conj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666880" y="685800"/>
            <a:ext cx="3448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ma Spli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32004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Incorrec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Jane gave up candy, however she still eats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40384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rrec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Jane gave up candy, but she still eats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48006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rrec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Jane gave up candy although she still eats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56386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rrec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Jane gave up candy. However, she still eats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be less choppy and more interesting than short, one-claus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contain a conjunction to join the two cla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use a comma by itself to join two cla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aning of the conjunction must accurately represent the relationship between the cla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5228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6000" y="685800"/>
            <a:ext cx="4857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ewriting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52388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Guidelines for writing sentences with more than one claus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15228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86000" y="685800"/>
            <a:ext cx="4857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ewriting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52388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Once you know these guidelines, you can rewrite sentences correctly in different way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388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28954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Unless Jared maintains a C average, we won’t let him use the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38862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f Jared doesn’t maintain a C average, we won’t let him use the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48769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e will let Jared use the car as long as he maintains a C ave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Sentence Comb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28600" y="685800"/>
            <a:ext cx="85057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entence Construction on the GED Te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2209680"/>
            <a:ext cx="769608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Sentences 1 and 2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aylight Savings Time started last week. It’s still dark when I get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effective combination of these sentences would include which group of word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Because Daylight Savings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Unless Daylight Savings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 Yet Daylight Savings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) Although Daylight Savings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) When Daylight Savings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5238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oose the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one best answer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to the question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54864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Answer choice (4) is correct. It shows the correct relationship between the two cla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4648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Sentence Comb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86000" y="685800"/>
            <a:ext cx="4724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equence of Ten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52388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When there are two clauses in a sentence, the tense of each verb must work logically (in sequence) with the tense of the other verb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32767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hen the rains come, Maria’s basement will be floo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4343400"/>
            <a:ext cx="85345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present tense </a:t>
            </a:r>
            <a:r>
              <a:rPr b="1" i="1" lang="en-US" sz="3000" spc="-1" strike="noStrike">
                <a:solidFill>
                  <a:srgbClr val="000000"/>
                </a:solidFill>
                <a:latin typeface="Comic Sans MS"/>
              </a:rPr>
              <a:t>come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with the conjunction </a:t>
            </a:r>
            <a:r>
              <a:rPr b="1" i="1" lang="en-US" sz="30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ndicates that the action will take place in the near future. Therefore, the future tense </a:t>
            </a:r>
            <a:r>
              <a:rPr b="1" i="1" lang="en-US" sz="3000" spc="-1" strike="noStrike">
                <a:solidFill>
                  <a:srgbClr val="000000"/>
                </a:solidFill>
                <a:latin typeface="Comic Sans MS"/>
              </a:rPr>
              <a:t>will be flooded</a:t>
            </a:r>
            <a:r>
              <a:rPr b="1" i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makes sen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Sentence Comb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057400" y="685800"/>
            <a:ext cx="45813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Effective Revisio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60020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Guidelines for tightening up wordy sentenc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verbs from passive to active. With an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ctive ver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subject is doing the acting. With 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assive ver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subject is acted up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3886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assive: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dinner was cooked by Jav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45720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ctive: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avier cooked the din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Sentence Comb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057400" y="685800"/>
            <a:ext cx="45813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Effective Revisio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60020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Guidelines for tightening up wordy sentenc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repeated words or phrases and try to combine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327672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Wordy: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salesclerks are responsible for ringing up the purchases of customers, and the salesclerks are also responsible for keeping the store looking clean and neat as a p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52578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learer: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salesclerks are responsible for ringing up customers’ purchases and keeping the store as neat as a p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mpound sent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two independent clauses joined by a coordinating conj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la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group of words that contains both a subject and a ver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independent cla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stand alone as a complete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ordinating conjunc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ike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and, but, yet, so, or, nor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join elements of equal r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5228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09680" y="685800"/>
            <a:ext cx="49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pound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Sentence Comb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057400" y="685800"/>
            <a:ext cx="45813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Effective Revisio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60020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Guidelines for tightening up wordy sentenc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at run-on sentences are too wor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2743200"/>
            <a:ext cx="678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Wordy: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 want to find a job where I can use my computer skills. And I want to find a job where I get to do something creative I get so tired of being told to keyboard and not to thin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4724280"/>
            <a:ext cx="678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learer: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 want a job where I can use my computer skills and get to be creative. I get tired of being told to keyboard and not  to thin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816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Sentence Comb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ordinating conjunction must show the correct relationship between the two clauses and should be preceded by a com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5228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09680" y="685800"/>
            <a:ext cx="49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pound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5029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ina scored 23 points,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o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she was named MV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41148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Comic Sans MS"/>
              </a:rPr>
              <a:t>Tina scored 23 points, </a:t>
            </a: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but</a:t>
            </a:r>
            <a:r>
              <a:rPr b="1" i="1" lang="en-US" sz="2400" spc="-1" strike="noStrike">
                <a:solidFill>
                  <a:srgbClr val="a50021"/>
                </a:solidFill>
                <a:latin typeface="Comic Sans MS"/>
              </a:rPr>
              <a:t> her team lost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3200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ina scored 23 points,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and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Pat hit a basket from half-cou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388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55627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Comic Sans MS"/>
              </a:rPr>
              <a:t>Tina may play basketball next year, </a:t>
            </a: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or</a:t>
            </a:r>
            <a:r>
              <a:rPr b="1" i="1" lang="en-US" sz="2400" spc="-1" strike="noStrike">
                <a:solidFill>
                  <a:srgbClr val="a50021"/>
                </a:solidFill>
                <a:latin typeface="Comic Sans MS"/>
              </a:rPr>
              <a:t> she may play soc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run-on sent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too many thoughts or strings together too many clauses without conj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1522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14600" y="685800"/>
            <a:ext cx="42195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un-on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32004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 usually ride the bus to work today it was late I had to take a ca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1148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x a run-on, break it up into two or more sentences and/or add a comma and a conj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54864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 usually ride the bus to work. Today it was late, so I had to take a ca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ma before </a:t>
            </a:r>
            <a:r>
              <a:rPr b="1" i="1" lang="en-US" sz="2800" spc="-1" strike="noStrike">
                <a:solidFill>
                  <a:srgbClr val="a50021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it connects two independent cla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438280" y="685800"/>
            <a:ext cx="4124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mas with "And"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3048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Nate plays the guitar, and Andrea plays the pi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525780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Singing, dancing, and clowning are all classes offered at the drama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41148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ma before </a:t>
            </a:r>
            <a:r>
              <a:rPr b="1" i="1" lang="en-US" sz="2800" spc="-1" strike="noStrike">
                <a:solidFill>
                  <a:srgbClr val="a50021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 series of three or more compound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DO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a comma with </a:t>
            </a:r>
            <a:r>
              <a:rPr b="1" i="1" lang="en-US" sz="2800" spc="-1" strike="noStrike">
                <a:solidFill>
                  <a:srgbClr val="a50021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it connects only two compound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38280" y="685800"/>
            <a:ext cx="4124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mas with "And"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3048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Nate plays the guitar and the pi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38862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Singing and dancing are classes offered at the drama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1066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mplex sent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 dependent clause connected to an independent clause by a subordinating conj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dependent clause can stand alone as a complete sentence, but a dependent clause can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dependent clause comes before the independent clause, place a comma before the independent cla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5228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0" y="685800"/>
            <a:ext cx="45529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plex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56386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Even though the sun is shining brightly, it’s very cold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independent clause comes before the dependent clause, do not use a com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5228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0" y="685800"/>
            <a:ext cx="45529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plex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2438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t’s very cold out even though the sun is shining brigh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2767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junction must show the correct relationship between the two clau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4267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Time relationship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before, while, as soon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4724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ause and effec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because, since,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5181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ndition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if, unless, wh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5638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mparison/contras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as if, although, whe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6095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lace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wher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685800"/>
            <a:ext cx="78868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ependent Clauses in a Paragraph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981080"/>
            <a:ext cx="80010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entence fragments are often dependent clauses standing alone. In a paragraph, you can fix such a fragment by connecting it to an independent clause. Any clause that begins with a subordinating conjunction must be attached to an independent clau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ipacmasrer</cp:lastModifiedBy>
  <dcterms:modified xsi:type="dcterms:W3CDTF">2003-05-15T16:47:33Z</dcterms:modified>
  <cp:revision>126</cp:revision>
  <dc:subject/>
  <dc:title>No Slide Title</dc:title>
</cp:coreProperties>
</file>