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A46E-F9B4-4C4D-8BEC-436152FF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3F1-B2CB-418E-B9D3-5F388B78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CA0-190B-4111-A572-86940B07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D20-542D-4860-9F76-DDEA0ADE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2BC-8F74-403A-AA75-9B07DA2E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937-0C13-4B75-9EB9-8EA315B5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5E0-6DCB-44FB-B23E-C410E483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D4D-1025-4B67-95D4-9B4D6A01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975-3330-4B72-A676-9E321130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7E5-39C3-44AF-BC39-8844E5C7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6C01-51F7-492F-B7E4-993CDA94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73E-7AC9-4B2B-86D0-CCAEA646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1A13-AEE4-4EC1-80EE-23082086C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352680"/>
            <a:ext cx="8191800" cy="156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Combining Sentences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85800"/>
            <a:ext cx="7886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pendent Clauses in a Paragraph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7696080" y="13716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7524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Find and correct the sentence fragments in the following paragraph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297180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efore there wa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r War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.T.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There were books about distant civilizations and extra terrestrial beings. Many people act as if science fiction movies are incredibly original, yet they draw on a long tradition of books and short stories. No one believed humans would ever walk on the Moon. When Jules Verne first wrote about a trip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429000"/>
            <a:ext cx="167652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5562720"/>
            <a:ext cx="190476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685800"/>
            <a:ext cx="7886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pendent Clauses in a Paragraph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13716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7524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Here is the same paragraph written correctl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297180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efore there wa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r War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E.T.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, ther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were books about distant civilizations and extra terrestrial beings. Many people act as if science fiction movies are incredibly original, yet they draw on a long tradition of books and short stories. No one believed humans would ever walk on the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oon when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Jules Verne first wrote about a trip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ma spl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error in which two clauses are incorrectly joined by a comma without a con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666880" y="685800"/>
            <a:ext cx="3448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 Spli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32767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n painted the living room today, she will do the hallwa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43434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n painted the living room today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an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she will do the hallwa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53341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Lin painted the living room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oday. Sh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ill do the hallwa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e linking word you use is really a conjunction. For example, the word </a:t>
            </a:r>
            <a:r>
              <a:rPr b="1" i="1" lang="en-US" sz="2800" spc="-1" strike="noStrike">
                <a:solidFill>
                  <a:srgbClr val="a50021"/>
                </a:solidFill>
                <a:latin typeface="Comic Sans MS"/>
              </a:rPr>
              <a:t>howe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a con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666880" y="685800"/>
            <a:ext cx="3448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 Spli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32004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In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Jane gave up candy, however she still eats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4038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Jane gave up candy, but she still eats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800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Jane gave up candy although she still eats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5638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rr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Jane gave up candy. However, she still eats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be less choppy and more interesting than short, one-claus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contain a conjunction to join the two cla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use a comma by itself to join two cla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aning of the conjunction must accurately represent the relationship between the cla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28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0" y="685800"/>
            <a:ext cx="4857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writing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52388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uidelines for writing sentences with more than one claus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5228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6000" y="685800"/>
            <a:ext cx="4857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writing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52388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Once you know these guidelines, you can rewrite sentences correctly in different way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28954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Unless Jared maintains a C average, we won’t let him use the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38862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f Jared doesn’t maintain a C average, we won’t let him use the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4876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e will let Jared use the car as long as he maintains a C ave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28600" y="685800"/>
            <a:ext cx="8505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entence Construction on the GED Te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2209680"/>
            <a:ext cx="76960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entences 1 and 2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aylight Savings Time started last week. It’s still dark when I get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effective combination of these sentences would include which group of word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Because Daylight Saving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Unless Daylight Saving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Yet Daylight Saving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 Although Daylight Saving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) When Daylight Saving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5238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oose the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one best answer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to the questio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54864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Answer choice (4) is correct. It shows the correct relationship between the two cl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4648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6000" y="685800"/>
            <a:ext cx="4724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equence of Ten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5238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When there are two clauses in a sentence, the tense of each verb must work logically (in sequence) with the tense of the other verb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276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en the rains come, Maria’s basement will be floo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343400"/>
            <a:ext cx="8534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present tense </a:t>
            </a: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come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with the conjunction </a:t>
            </a: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ndicates that the action will take place in the near future. Therefore, the future tense </a:t>
            </a: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will be flooded</a:t>
            </a:r>
            <a:r>
              <a:rPr b="1" i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makes sen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057400" y="685800"/>
            <a:ext cx="4581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Effective Revisio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60020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uidelines for tightening up wordy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verbs from passive to active. With an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ctive 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ubject is doing the acting. With 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assive 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ubject is acted up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3886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assive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dinner was cooked by Jav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4572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ctive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Javier cooked the din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057400" y="685800"/>
            <a:ext cx="4581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Effective Revisio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60020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uidelines for tightening up wordy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repeated words or phrases and try to combine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327672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Wordy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salesclerks are responsible for ringing up the purchases of customers, and the salesclerks are also responsible for keeping the store looking clean and neat as a p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52578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learer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salesclerks are responsible for ringing up customers’ purchases and keeping the store as neat as a p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pound sent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two independent clauses joined by a coordinating con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la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group of words that contains both a subject and a ver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independent cla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stand alone as a complete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ordinating conjunc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k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and, but, yet, so, or, nor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join elements of equal r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28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09680" y="68580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ound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057400" y="685800"/>
            <a:ext cx="4581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Effective Revisio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60020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uidelines for tightening up wordy sent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run-on sentences are too wor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2743200"/>
            <a:ext cx="678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Wordy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want to find a job where I can use my computer skills. And I want to find a job where I get to do something creative I get so tired of being told to keyboard and not to thi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4724280"/>
            <a:ext cx="678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learer: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want a job where I can use my computer skills and get to be creative. I get tired of being told to keyboard and not  to thi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816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Sentence Comb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ordinating conjunction must show the correct relationship between the two clauses and should be preceded by a com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5228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09680" y="685800"/>
            <a:ext cx="49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ound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5029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ina scored 23 points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o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she was named MV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41148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Comic Sans MS"/>
              </a:rPr>
              <a:t>Tina scored 23 points,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but</a:t>
            </a:r>
            <a:r>
              <a:rPr b="1" i="1" lang="en-US" sz="2400" spc="-1" strike="noStrike">
                <a:solidFill>
                  <a:srgbClr val="a50021"/>
                </a:solidFill>
                <a:latin typeface="Comic Sans MS"/>
              </a:rPr>
              <a:t> her team lost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3200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ina scored 23 points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and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Pat hit a basket from half-cou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55627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Comic Sans MS"/>
              </a:rPr>
              <a:t>Tina may play basketball next year,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or</a:t>
            </a:r>
            <a:r>
              <a:rPr b="1" i="1" lang="en-US" sz="2400" spc="-1" strike="noStrike">
                <a:solidFill>
                  <a:srgbClr val="a50021"/>
                </a:solidFill>
                <a:latin typeface="Comic Sans MS"/>
              </a:rPr>
              <a:t> she may play soc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run-on sent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too many thoughts or strings together too many clauses without conj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522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14600" y="685800"/>
            <a:ext cx="42195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un-on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32004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usually ride the bus to work today it was late I had to take a c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1148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x a run-on, break it up into two or more sentences and/or add a comma and a con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54864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usually ride the bus to work. Today it was late, so I had to take a c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before </a:t>
            </a:r>
            <a:r>
              <a:rPr b="1" i="1" lang="en-US" sz="2800" spc="-1" strike="noStrike">
                <a:solidFill>
                  <a:srgbClr val="a50021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 connects two independent cla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438280" y="685800"/>
            <a:ext cx="4124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s with "And"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3048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Nate plays the guitar, and Andrea plays the pi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52578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Singing, dancing, and clowning are all classes offered at the drama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41148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before </a:t>
            </a:r>
            <a:r>
              <a:rPr b="1" i="1" lang="en-US" sz="2800" spc="-1" strike="noStrike">
                <a:solidFill>
                  <a:srgbClr val="a50021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 series of three or more compound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a comma with </a:t>
            </a:r>
            <a:r>
              <a:rPr b="1" i="1" lang="en-US" sz="2800" spc="-1" strike="noStrike">
                <a:solidFill>
                  <a:srgbClr val="a50021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 connects only two compound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38280" y="685800"/>
            <a:ext cx="4124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s with "And"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3048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Nate plays the guitar and the pi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38862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Singing and dancing are classes offered at the drama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1066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plex sent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 dependent clause connected to an independent clause by a subordinating con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dependent clause can stand alone as a complete sentence, but a dependent clause can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dependent clause comes before the independent clause, place a comma before the independent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28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0" y="685800"/>
            <a:ext cx="4552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lex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56386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Even though the sun is shining brightly, it’s very cold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independent clause comes before the dependent clause, do not use a com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5228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0" y="685800"/>
            <a:ext cx="4552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plex Sentenc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438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t’s very cold out even though the sun is shining brigh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2767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junction must show the correct relationship between the two cla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267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Time relationship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before, while, as soon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4724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use and effec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because, since,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5181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ndition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if, unless, wh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5638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omparison/contrast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as if, although, whe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6095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lace: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wher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52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3: Combining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85800"/>
            <a:ext cx="78868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pendent Clauses in a Paragraph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8001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entence fragments are often dependent clauses standing alone. In a paragraph, you can fix such a fragment by connecting it to an independent clause. Any clause that begins with a subordinating conjunction must be attached to an independent clau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ipacmasrer</cp:lastModifiedBy>
  <dcterms:modified xsi:type="dcterms:W3CDTF">2003-05-15T16:47:33Z</dcterms:modified>
  <cp:revision>126</cp:revision>
  <dc:subject/>
  <dc:title>No Slide Title</dc:title>
</cp:coreProperties>
</file>