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4B0-5663-4DE8-8A0E-BA77FA4A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D5E-3174-436A-80F0-E90EDF5A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07F-634E-4C96-BD89-C1114754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ED3-4D97-4C3A-805F-E334C4B6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4DA-7C68-45CC-827E-59E9D703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F5B-B136-4E3D-A025-B1385AF3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837-7482-4A66-B09E-DD4620ED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58F-EEFB-4BAB-B158-AB279DD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E22-3636-4652-B64A-F16EE327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D9F-7D8E-4C21-82D5-3DA3EC00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E81-1F10-4C4E-8D73-82C0D086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09F-CC9F-4E54-A99E-76ABB7C3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3C19-FE96-4C5C-B053-FE435B3CD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352680"/>
            <a:ext cx="819180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Combining Sentences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1371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7524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ind and correct the sentence fragments in the following para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9718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fore there w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r War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.T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here were books about distant civilizations and extra terrestrial beings. Many people act as if science fiction movies are incredibly original, yet they draw on a long tradition of books and short stories. No one believed humans would ever walk on the Moon. When Jules Verne first wrote about a trip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429000"/>
            <a:ext cx="167652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5562720"/>
            <a:ext cx="190476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371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7524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Here is the same paragraph written correct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9718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fore there w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r War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.T.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ther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ere books about distant civilizations and extra terrestrial beings. Many people act as if science fiction movies are incredibly original, yet they draw on a long tradition of books and short stories. No one believed humans would ever walk on the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on when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Jules Verne first wrote about a trip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ma spl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rror in which two clauses are incorrectly joined by a comma without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66880" y="68580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Spli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2767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today, she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4343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today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n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e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5334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oday. Sh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linking word you use is really a conjunction. For example, the word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how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66880" y="68580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Spli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, however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4038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, but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800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 although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5638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. However,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less choppy and more interesting than short, one-claus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contain a conjunction to join the two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use a comma by itself to join two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ning of the conjunction must accurately represent the relationship between the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0" y="685800"/>
            <a:ext cx="485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writing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5238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writing sentences with more than one claus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0" y="685800"/>
            <a:ext cx="485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writing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5238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Once you know these guidelines, you can rewrite sentences correctly in different way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895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Unless Jared maintains a C average, we won’t let him use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8862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Jared doesn’t maintain a C average, we won’t let him use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4876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e will let Jared use the car as long as he maintains a C ave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600" y="685800"/>
            <a:ext cx="8505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entence Construction on the GED T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209680"/>
            <a:ext cx="7696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ntences 1 and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ylight Savings Time started last week. It’s still dark when I g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effective combination of these sentences would include which group of wor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Because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Unless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Yet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 Although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 When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oose the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one best answer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to the questio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4864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nswer choice (4) is correct. It shows the correct relationship between the two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648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0" y="685800"/>
            <a:ext cx="4724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equence of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hen there are two clauses in a sentence, the tense of each verb must work logically (in sequence) with the tense of the other ver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276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 the rains come, Maria’s basement will be floo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343400"/>
            <a:ext cx="8534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resent tens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com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th the conjunction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ndicates that the action will take place in the near future. Therefore, the future tens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will be flooded</a:t>
            </a:r>
            <a:r>
              <a:rPr b="1" i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s sen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verbs from passive to active. With 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ctive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doing the acting. With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sive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acted up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886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assive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dinner was cooked by J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4572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ctive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avier cooked the di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repeated words or phrases and try to combin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327672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Wordy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alesclerks are responsible for ringing up the purchases of customers, and the salesclerks are also responsible for keeping the store looking clean and neat as a p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5257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learer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alesclerks are responsible for ringing up customers’ purchases and keeping the store as neat as a p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ound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wo independent clauses joined by a coordinating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l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contains both a subject and a ve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dependent cl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stand alone as a complet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ordinating conjunc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k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and, but, yet, so, or, no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join elements of equal r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09680" y="68580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run-on sentences are too wor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274320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Wordy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want to find a job where I can use my computer skills. And I want to find a job where I get to do something creative I get so tired of being told to keyboard and not to th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724280"/>
            <a:ext cx="678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learer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want a job where I can use my computer skills and get to be creative. I get tired of being told to keyboard and not  to th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ordinating conjunction must show the correct relationship between the two clauses and should be preceded by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09680" y="68580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029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o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e was named MV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114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but</a:t>
            </a: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 her team lost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200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n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Pat hit a basket from half-cou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5562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Tina may play basketball next year,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or</a:t>
            </a: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 she may play soc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run-on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oo many thoughts or strings together too many clauses without conj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522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14600" y="685800"/>
            <a:ext cx="42195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un-on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32004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usually ride the bus to work today it was late I had to take a c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1148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x a run-on, break it up into two or more sentences and/or add a comma and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5486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usually ride the bus to work. Today it was late, so I had to take a c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fore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connects two independent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438280" y="685800"/>
            <a:ext cx="4124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"And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048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ate plays the guitar, and Andrea plays the pi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52578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inging, dancing, and clowning are all classes offered at the drama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41148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fore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series of three or more compoun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a comma with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connects only two compoun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685800"/>
            <a:ext cx="4124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"And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048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ate plays the guitar and the pi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886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inging and dancing are classes offered at the drama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1066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lex sent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 dependent clause connected to an independent clause by a subordinating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ependent clause can stand alone as a complete sentence, but a dependent clause can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ependent clause comes before the independent clause, place a comma before the independent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0" y="685800"/>
            <a:ext cx="4552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lex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56386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Even though the sun is shining brightly, it’s very cold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independent clause comes before the dependent clause, do not use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0" y="685800"/>
            <a:ext cx="4552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lex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438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t’s very cold out even though the sun is shining brigh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2767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junction must show the correct relationship between the two cl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267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ime relationship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before, while, as soo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724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use and eff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because, since,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5181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ndition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if, unless, wh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mparison/contras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s if, although, whe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6095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lace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her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8001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entence fragments are often dependent clauses standing alone. In a paragraph, you can fix such a fragment by connecting it to an independent clause. Any clause that begins with a subordinating conjunction must be attached to an independent clau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ipacmasrer</cp:lastModifiedBy>
  <dcterms:modified xsi:type="dcterms:W3CDTF">2003-05-15T16:47:33Z</dcterms:modified>
  <cp:revision>126</cp:revision>
  <dc:subject/>
  <dc:title>No Slide Title</dc:title>
</cp:coreProperties>
</file>