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837-0713-48C0-B101-07EC36E4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76D-4A3D-4087-8DA4-7105A6A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CA1-96FF-4C7A-9B15-BE96C9E0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513-62D1-4BFE-98A6-2CCD9CCE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49A-DE96-4214-98C1-AA2C2FC2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3BA-E6D7-49F5-885D-DC16242B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BFA-3EA0-4A27-95A3-4947485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3ED-15AD-4CC1-BADD-5C67E47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49C-503C-4DB5-82A1-1C5CF7FF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20C-961F-4F63-8750-F2F667A5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F62-8A95-4B20-BA1D-AD5FFF76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BD0-241B-4C0C-B5DC-BCDA0E18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24F5-DCCA-4631-A49C-20CEB6D84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3276720"/>
            <a:ext cx="57243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 Verb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52480" y="685800"/>
            <a:ext cx="5753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sing Consisten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765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Verb tense should always tell the reader 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whe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n event happen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971800"/>
            <a:ext cx="7696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rry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he first person in her family to own her own house.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saved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up her money for years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found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a good deal on a mortgage. In fact, her monthly mortgage now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hardly more than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as paying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in rent. If sh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decide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o sell her house in a few years, it almost certainly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ill b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orth more than it i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32763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-tense verbs of singular subjects (except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nd i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685800"/>
            <a:ext cx="7363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Basic Subject-Verb Agreement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75248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ubject-verb agreement means choosing the present-tense verb that matches the subject in nu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267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wimmer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mell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ke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5867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wimmers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mell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ke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8769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t tense verbs of plural subjects (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o not end in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ompound subject is formed using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pl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81080" y="533520"/>
            <a:ext cx="4610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ubject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2952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necting words </a:t>
            </a:r>
            <a:r>
              <a:rPr b="1" i="1" lang="en-US" sz="3000" spc="-1" strike="noStrike">
                <a:solidFill>
                  <a:srgbClr val="660066"/>
                </a:solidFill>
                <a:latin typeface="Comic Sans MS"/>
              </a:rPr>
              <a:t>and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nd </a:t>
            </a:r>
            <a:r>
              <a:rPr b="1" i="1" lang="en-US" sz="3000" spc="-1" strike="noStrike">
                <a:solidFill>
                  <a:srgbClr val="660066"/>
                </a:solidFill>
                <a:latin typeface="Comic Sans MS"/>
              </a:rPr>
              <a:t>or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form compound subjects and let you know whether the subject is singular or plu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regor and his parents cook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410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regor or his parents cook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1148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ompound subject is formed using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n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verb should agree with the subject clos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is parents or Gregor cooks dinner every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05120" y="685800"/>
            <a:ext cx="5190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verted Word Ord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6002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ubject of an inverted sentence has to be determined in order to make it agree with the verb in nu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048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ere (is, are) the packages the messenger br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886200"/>
            <a:ext cx="73915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packages the messenger brought ar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724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(Is, Are) the photos of the Kaufmann House in that pack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562720"/>
            <a:ext cx="7010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photos of the Kaufmann house ar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ubject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                   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at pa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429000"/>
            <a:ext cx="5335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105520"/>
            <a:ext cx="6094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685800"/>
            <a:ext cx="5190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verted Word Ord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6002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t can also be hard to identify the subject in a command or in a sentence that begins with an introductory phr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ido, (fetch, fetches) my slip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ido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fetch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y slip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41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the cockpit of the plane there (is, are) many gau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334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n the cockpit of the plane ther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many gau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81080" y="685800"/>
            <a:ext cx="5000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repositional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479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a three-step process to make sure the subject and verb agree in a sentence with a prepositional phra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352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headlines in today’s newspaper (is, are) distur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4267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ut the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581280"/>
            <a:ext cx="3124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876920"/>
            <a:ext cx="6019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impl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4864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verb that agrees with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733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Simpl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733920"/>
            <a:ext cx="60984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are always singu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886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yone  anything  anybody  each  either  neither no one  nothing  nobody  everyone  everything everybody  one  someone  something  some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as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yon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heard from Dyl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7913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obody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nows the trouble I’v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are always plu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3962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both     few     many     sev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800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ew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e flowers are in bloom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5410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ost squirrels are afraid of people, but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evera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re b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definite pronouns can be either singular or plural depending on their antece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0" y="685800"/>
            <a:ext cx="4676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ndefinite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n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ndefinite pronou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pronoun that does not name a specific person or 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4038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ll     any     some     most    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s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e musicians are tal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st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f that CD is fun to listen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presen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or state of being that is happening now or happens regul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imple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752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time showed by a verb is called its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ens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809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57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s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334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tche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pas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occurred at a specified time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imple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52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time showed by a verb is called its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ens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429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114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mple future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has not yet taken place but will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181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wal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is in progress and is happening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38280" y="68580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inuing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tinuing tenses are used to show action in progress or action that is on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m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5181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s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 past action that continued for so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685800"/>
            <a:ext cx="42386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ntinuing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7524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continuing tenses are used to show action in progress or action that is ongo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098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as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every morning until she hurt her f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be walking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72428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continuing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ongoing action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9120" y="32767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esent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started in the past and continues into the present or has just been compl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68580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rfec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erfect tenses are used to show action completed before or continuing to a specific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ve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s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all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32763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t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took place before a specified time in the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666880" y="68580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rfect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erfect tenses are used to show action completed before or continuing to a specific ti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191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had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791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By Friday, Jea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will have walk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work five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90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800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uture perfect t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an action that will be completed by a specified time in th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666880" y="685800"/>
            <a:ext cx="3733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rregular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ost verbs in the English language follow a regular pattern for forming different tenses, but many important verbs are ir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3276720"/>
          <a:ext cx="6859800" cy="289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276720"/>
                    <a:ext cx="68598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2: Us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666880" y="685800"/>
            <a:ext cx="3733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Irregular 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everal verb pairs are tricky because they sound so much alike but have slightly different meaning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30477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03848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581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I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ay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 blanket on the floor, my cat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lie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e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groceries on the counter and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i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down for a min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715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o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aise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he curtain, and the viewers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ros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to their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9:16:59Z</dcterms:modified>
  <cp:revision>90</cp:revision>
  <dc:subject/>
  <dc:title>No Slide Title</dc:title>
</cp:coreProperties>
</file>