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D0CA-5F43-47E1-A409-BFC75EFB5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E737-3A95-476A-8A53-D6695FAB2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6542-99DD-4FF0-B441-9A3768C6A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1C9A-2F90-4F3C-AF2A-3C5DB8A3F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B9DF-CA8C-4837-BCD5-16AEFF4FF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36BF-7ADA-4808-A2F2-7138E4688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0A6D-CCB3-44EC-B433-81B3438FD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5C10-EABB-4722-94DB-06A9D0F7A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A847-DB0E-4B35-BE12-621E88014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8103-96CE-47CF-95CB-341801B0F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AD15-F161-4B3C-BFF7-22551A7FB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3C19-F371-43D9-88B1-ACD9D551C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BB6D0-3F01-4C14-BC75-31722B2071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95280" y="2514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CHAPTER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676520" y="3276720"/>
            <a:ext cx="572436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Using Verbs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6172200" y="617220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15228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2: Using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752480" y="685800"/>
            <a:ext cx="575316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Using Consistent Tense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1676520"/>
            <a:ext cx="85341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Verb tense should always tell the reader </a:t>
            </a:r>
            <a:r>
              <a:rPr b="1" i="1" lang="en-US" sz="3000" spc="-1" strike="noStrike">
                <a:solidFill>
                  <a:srgbClr val="a50021"/>
                </a:solidFill>
                <a:latin typeface="Arial"/>
              </a:rPr>
              <a:t>when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an event happene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2971800"/>
            <a:ext cx="769608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Kerry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is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the first person in her family to own her own house. She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saved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up her money for years and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found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a good deal on a mortgage. In fact, her monthly mortgage now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is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hardly more than she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was paying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in rent. If she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decides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to sell her house in a few years, it almost certainly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will be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worth more than it is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85800" y="32763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esent-tense verbs of singular subjects (except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end in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-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-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" y="15228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2: Using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685800"/>
            <a:ext cx="73630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Basic Subject-Verb Agreement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1752480"/>
            <a:ext cx="85345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Subject-verb agreement means choosing the present-tense verb that matches the subject in numbe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00200" y="426708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The swimmer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smells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like chlor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00200" y="586728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The swimmers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smell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like chlor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4876920"/>
            <a:ext cx="81532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esent tense verbs of plural subjects (and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do not end in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-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-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85800" y="27432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 compound subject is formed using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 subject is plur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15228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2: Using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981080" y="533520"/>
            <a:ext cx="461016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Compound Subject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1295280"/>
            <a:ext cx="85341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The connecting words </a:t>
            </a:r>
            <a:r>
              <a:rPr b="1" i="1" lang="en-US" sz="3000" spc="-1" strike="noStrike">
                <a:solidFill>
                  <a:srgbClr val="660066"/>
                </a:solidFill>
                <a:latin typeface="Comic Sans MS"/>
              </a:rPr>
              <a:t>and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and </a:t>
            </a:r>
            <a:r>
              <a:rPr b="1" i="1" lang="en-US" sz="3000" spc="-1" strike="noStrike">
                <a:solidFill>
                  <a:srgbClr val="660066"/>
                </a:solidFill>
                <a:latin typeface="Comic Sans MS"/>
              </a:rPr>
              <a:t>or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form compound subjects and let you know whether the subject is singular or plural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447920" y="36576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Gregor and his parents cook dinner every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95280" y="54100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Gregor or his parents cook dinner every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41148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 compound subject is formed using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n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 verb should agree with the subject closer to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8672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His parents or Gregor cooks dinner every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15228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2: Using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905120" y="685800"/>
            <a:ext cx="51908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Inverted Word Order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36" name=""/>
          <p:cNvSpPr/>
          <p:nvPr/>
        </p:nvSpPr>
        <p:spPr>
          <a:xfrm>
            <a:off x="304920" y="1600200"/>
            <a:ext cx="85341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The subject of an inverted sentence has to be determined in order to make it agree with the verb in numbe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90720" y="30481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Here (is, are) the packages the messenger brou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00200" y="3886200"/>
            <a:ext cx="7391520" cy="6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The packages the messenger brought are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Subject </a:t>
            </a: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     Ve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4400" y="472428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(Is, Are) the photos of the Kaufmann House in that packag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0200" y="5562720"/>
            <a:ext cx="701028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The photos of the Kaufmann house are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Subject </a:t>
            </a: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                   Ve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that pack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14600" y="3429000"/>
            <a:ext cx="53352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676520" y="5105520"/>
            <a:ext cx="60948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" y="15228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2: Using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05120" y="685800"/>
            <a:ext cx="51908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Inverted Word Order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46" name=""/>
          <p:cNvSpPr/>
          <p:nvPr/>
        </p:nvSpPr>
        <p:spPr>
          <a:xfrm>
            <a:off x="304920" y="1600200"/>
            <a:ext cx="85341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It can also be hard to identify the subject in a command or in a sentence that begins with an introductory phras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90720" y="32004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Fido, (fetch, fetches) my slipp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00200" y="37339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Fido,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fetch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my slipp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4400" y="441972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In the cockpit of the plane there (is, are) many gau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533412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In the cockpit of the plane there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are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many gau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238880" y="10666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" y="15228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2: Using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981080" y="685800"/>
            <a:ext cx="500076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Prepositional Phrase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1447920"/>
            <a:ext cx="83822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Use a three-step process to make sure the subject and verb agree in a sentence with a prepositional phras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3526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The headlines in today’s newspaper (is, are) distur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685800" y="4267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 out the prepositional phr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3581280"/>
            <a:ext cx="312408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4876920"/>
            <a:ext cx="6019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he simple sub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5486400"/>
            <a:ext cx="8077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the verb that agrees with the sub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66680" y="37339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Simple Su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324480" y="3733920"/>
            <a:ext cx="60984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685800" y="29718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llowing indefinite pronouns are always singula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" y="15228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2: Using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2286000" y="685800"/>
            <a:ext cx="467676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Indefinite Pronoun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" y="1752480"/>
            <a:ext cx="8534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An 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indefinite pronoun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is a pronoun that does not name a specific person or thing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5280" y="38862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anyone  anything  anybody  each  either  neither no one  nothing  nobody  everyone  everything everybody  one  someone  something  some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51460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Has 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anyone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heard from Dyla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81080" y="579132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Nobody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knows the trouble I’ve se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685800" y="29718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llowing indefinite pronouns are always plura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" y="15228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2: Using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2286000" y="685800"/>
            <a:ext cx="467676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Indefinite Pronoun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" y="1752480"/>
            <a:ext cx="8534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An 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indefinite pronoun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is a pronoun that does not name a specific person or thing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95280" y="396252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both     few     many     sev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76520" y="480060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Few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of the flowers are in bloom y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600200" y="541008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Most squirrels are afraid of people, but 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several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are bra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010280" y="10666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85440" y="29718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llowing indefinite pronouns can be either singular or plural depending on their anteced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" y="15228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2: Using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2286000" y="685800"/>
            <a:ext cx="467676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Indefinite Pronoun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" y="1752480"/>
            <a:ext cx="8534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An 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indefinite pronoun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is a pronoun that does not name a specific person or thing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371600" y="403848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all     any     some     most     n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76520" y="487692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Most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of the musicians are talen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563868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Most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of that CD is fun to listen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010280" y="10666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85640" y="2286000"/>
            <a:ext cx="4724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a50021"/>
                </a:solidFill>
                <a:latin typeface="Impact"/>
              </a:rPr>
              <a:t>THE END</a:t>
            </a:r>
            <a:endParaRPr b="0" lang="en-US" sz="7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3392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e the skills you learned in this chapter by taking the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Chapter Review Qui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the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GED Practice Qui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5228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2: Using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2438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simple present ten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ows an action or state of being that is happening now or happens regular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15228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2: Using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743200" y="685800"/>
            <a:ext cx="33814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Simple Tense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1752480"/>
            <a:ext cx="8534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The time showed by a verb is called its 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tense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00200" y="38098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I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walk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to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0" y="45720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Jean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walks</a:t>
            </a: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to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124080" y="533412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He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watches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the traff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2438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simple past ten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ows an action that occurred at a specified time in the pa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15228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2: Using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743200" y="685800"/>
            <a:ext cx="33814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Simple Tense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1752480"/>
            <a:ext cx="8534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The time showed by a verb is called its 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tense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00200" y="34290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Jean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walked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to work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41148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simple future ten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ows an action that has not yet taken place but will in the fu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00200" y="518148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Jean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will walk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to work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400800" y="9144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85800" y="29718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present continuing ten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ows an action that is in progress and is happening n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28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2: Using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438280" y="685800"/>
            <a:ext cx="42386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Continuing Tense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1752480"/>
            <a:ext cx="8534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The continuing tenses are used to show action in progress or action that is ongoing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00200" y="42670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I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am walking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to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438280" y="51814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Jean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is walking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to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685800" y="28191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past continuing ten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ows a past action that continued for some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15228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2: Using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438280" y="685800"/>
            <a:ext cx="42386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Continuing Tense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1752480"/>
            <a:ext cx="8534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The continuing tenses are used to show action in progress or action that is ongoing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00200" y="3809880"/>
            <a:ext cx="67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Jean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was walking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to work every morning until she hurt her fo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57150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Jean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will be walking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to work all summ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0" y="9144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472428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future continuing ten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ows an ongoing action in the fu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09120" y="3276720"/>
            <a:ext cx="8153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present perfect ten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ows an action that started in the past and continues into the present or has just been comple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15228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2: Using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666880" y="685800"/>
            <a:ext cx="36198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Perfect Tense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1752480"/>
            <a:ext cx="80010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The perfect tenses are used to show action completed before or continuing to a specific tim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00200" y="48769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I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have walked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to work all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556272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Jean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has walked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to work all summ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09120" y="3276360"/>
            <a:ext cx="8153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past perfect ten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ows an action that took place before a specified time in the pa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15228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2: Using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666880" y="685800"/>
            <a:ext cx="36198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Perfect Tense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1752480"/>
            <a:ext cx="80010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The perfect tenses are used to show action completed before or continuing to a specific tim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3880" y="41911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Jean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had walked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to work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00200" y="579132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By Friday, Jean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will have walked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to work five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9907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4800600"/>
            <a:ext cx="8534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future perfect ten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ows an action that will be completed by a specified time in the fu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5228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2: Using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666880" y="685800"/>
            <a:ext cx="373392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Irregular Verb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523880"/>
            <a:ext cx="85341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Most verbs in the English language follow a regular pattern for forming different tenses, but many important verbs are irregula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066680" y="3276720"/>
          <a:ext cx="6859800" cy="2898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3276720"/>
                    <a:ext cx="6859800" cy="28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15228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2: Using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666880" y="685800"/>
            <a:ext cx="373392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Irregular Verb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1523880"/>
            <a:ext cx="85341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Several verb pairs are tricky because they sound so much alike but have slightly different meaning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553080" y="91440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09120" y="3047760"/>
            <a:ext cx="81536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a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4038480"/>
            <a:ext cx="8153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5257800"/>
            <a:ext cx="8153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ai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19320" y="35812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If I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lay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a blanket on the floor, my cat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lies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19320" y="449568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Set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the groceries on the counter and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sit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down for a min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43000" y="571500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Jo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raised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the curtain, and the viewers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rose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to their fe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7T20:27:45Z</dcterms:created>
  <dc:creator>jennifer_krasula</dc:creator>
  <dc:description/>
  <dc:language>en-US</dc:language>
  <cp:lastModifiedBy>jennifer_krasula</cp:lastModifiedBy>
  <dcterms:modified xsi:type="dcterms:W3CDTF">2002-05-01T19:16:59Z</dcterms:modified>
  <cp:revision>90</cp:revision>
  <dc:subject/>
  <dc:title>No Slide Title</dc:title>
</cp:coreProperties>
</file>