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8FA-62EC-4335-AB34-E037D05A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AE9-62E9-49FD-8F14-3DAACD78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BD4-202A-4986-8067-4D604CDE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CF6B-A3B8-4E05-B488-F9B23F4A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2F5-07AA-44B4-BBB4-974347FE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B4C-5858-4169-9687-9DD9542D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7414-13BB-435D-85B8-097C6DB2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7C3-0438-44B5-8C89-649D435B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0ED-DD70-40F3-88F0-575D7806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D5C-5395-4F84-8594-918CAD0C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B02-5C28-4E56-8AB2-242A7CAB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AB5-F54E-4192-97D2-FF3E66F9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CD39-4BC4-47DB-B409-1E5C0B817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3276720"/>
            <a:ext cx="57243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sing Verb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52480" y="685800"/>
            <a:ext cx="5753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sing Consistent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6765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Verb tense should always tell the reader </a:t>
            </a:r>
            <a:r>
              <a:rPr b="1" i="1" lang="en-US" sz="3000" spc="-1" strike="noStrike">
                <a:solidFill>
                  <a:srgbClr val="a50021"/>
                </a:solidFill>
                <a:latin typeface="Arial"/>
              </a:rPr>
              <a:t>whe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an event happen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971800"/>
            <a:ext cx="7696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erry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the first person in her family to own her own house. Sh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saved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up her money for years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found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a good deal on a mortgage. In fact, her monthly mortgage now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hardly more than sh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was paying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in rent. If sh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decide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to sell her house in a few years, it almost certainly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will b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worth more than it i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32763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t-tense verbs of singular subjects (except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nd in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685800"/>
            <a:ext cx="7363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Basic Subject-Verb Agreement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752480"/>
            <a:ext cx="8534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ubject-verb agreement means choosing the present-tense verb that matches the subject in numb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267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swimmer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mell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ke chlo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5867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swimmers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mell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ke chlo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8769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t tense verbs of plural subjects (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o not end in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ompound subject is formed using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ubject is pl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981080" y="533520"/>
            <a:ext cx="4610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ound Subject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2952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connecting words </a:t>
            </a:r>
            <a:r>
              <a:rPr b="1" i="1" lang="en-US" sz="3000" spc="-1" strike="noStrike">
                <a:solidFill>
                  <a:srgbClr val="660066"/>
                </a:solidFill>
                <a:latin typeface="Comic Sans MS"/>
              </a:rPr>
              <a:t>and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and </a:t>
            </a:r>
            <a:r>
              <a:rPr b="1" i="1" lang="en-US" sz="3000" spc="-1" strike="noStrike">
                <a:solidFill>
                  <a:srgbClr val="660066"/>
                </a:solidFill>
                <a:latin typeface="Comic Sans MS"/>
              </a:rPr>
              <a:t>or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form compound subjects and let you know whether the subject is singular or plur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3657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regor and his parents cook dinner every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5410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regor or his parents cook dinner every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1148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ompound subject is formed using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n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verb should agree with the subject closer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is parents or Gregor cooks dinner every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905120" y="685800"/>
            <a:ext cx="5190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verted Word Ord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60020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ubject of an inverted sentence has to be determined in order to make it agree with the verb in numb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3048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ere (is, are) the packages the messenger brou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886200"/>
            <a:ext cx="73915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packages the messenger brought ar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    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724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(Is, Are) the photos of the Kaufmann House in that pack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562720"/>
            <a:ext cx="7010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photos of the Kaufmann house ar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                  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at pa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3429000"/>
            <a:ext cx="5335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5105520"/>
            <a:ext cx="6094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5120" y="685800"/>
            <a:ext cx="5190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verted Word Ord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60020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t can also be hard to identify the subject in a command or in a sentence that begins with an introductory phra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3200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ido, (fetch, fetches) my slip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Fido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fetch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y slip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4419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n the cockpit of the plane there (is, are) many gau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53341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n the cockpit of the plane ther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ar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any gau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81080" y="685800"/>
            <a:ext cx="5000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repositional Phra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4479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a three-step process to make sure the subject and verb agree in a sentence with a prepositional phras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3526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headlines in today’s newspaper (is, are) distur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4267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ut the prepositio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3581280"/>
            <a:ext cx="31240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876920"/>
            <a:ext cx="6019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impl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4864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verb that agrees with th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733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impl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3733920"/>
            <a:ext cx="60984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ndefinite pronouns are always singu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0" y="685800"/>
            <a:ext cx="4676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definite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n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ndefinite pro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pronoun that does not name a specific person or 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3886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nyone  anything  anybody  each  either  neither no one  nothing  nobody  everyone  everything everybody  one  someone  something  some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as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nyon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heard from Dyl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7913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Nobody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nows the trouble I’ve s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ndefinite pronouns are always plu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0" y="685800"/>
            <a:ext cx="4676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definite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n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ndefinite pro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pronoun that does not name a specific person or 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39625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both     few     many     sev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4800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Few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f the flowers are in bloom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54100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ost squirrels are afraid of people, but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several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re br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440" y="29718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ndefinite pronouns can be either singular or plural depending on their anteced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86000" y="685800"/>
            <a:ext cx="4676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definite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n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ndefinite pro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pronoun that does not name a specific person or 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4038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ll     any     some     most    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876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ost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f the musicians are tal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5638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ost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f that CD is fun to listen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102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imple presen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or state of being that is happening now or happens regular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43200" y="685800"/>
            <a:ext cx="33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imple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75248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time showed by a verb is called its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tense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3809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lk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4572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lks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53341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tche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he traff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imple pas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occurred at a specified time in the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743200" y="685800"/>
            <a:ext cx="33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imple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75248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time showed by a verb is called its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tense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429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1148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imple future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has not yet taken place but will in the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5181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ill walk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sent continuing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is in progress and is happening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38280" y="685800"/>
            <a:ext cx="42386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ntinuing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continuing tenses are used to show action in progress or action that is ongo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am walking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5181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is walking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2819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t continuing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 past action that continued for som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438280" y="685800"/>
            <a:ext cx="42386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ntinuing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continuing tenses are used to show action in progress or action that is ongo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8098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s walking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every morning until she hurt her f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715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ill be walking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all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72428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uture continuing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ongoing action in the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09120" y="32767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sent perfec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started in the past and continues into the present or has just been comple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666880" y="68580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erfect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7524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perfect tenses are used to show action completed before or continuing to a specific ti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have 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all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has 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all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09120" y="32763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t perfec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took place before a specified time in the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666880" y="68580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erfect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7524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perfect tenses are used to show action completed before or continuing to a specific ti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191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had 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5791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By Friday, 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ill have 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five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90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80060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uture perfec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will be completed by a specified time in the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666880" y="685800"/>
            <a:ext cx="3733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rregular 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5238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ost verbs in the English language follow a regular pattern for forming different tenses, but many important verbs are ir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66680" y="3276720"/>
          <a:ext cx="6859800" cy="2898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3276720"/>
                    <a:ext cx="685980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666880" y="685800"/>
            <a:ext cx="3733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rregular 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5238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everal verb pairs are tricky because they sound so much alike but have slightly different meaning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120" y="3047760"/>
            <a:ext cx="8153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03848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25780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581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I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lay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a blanket on the floor, my cat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lie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4495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et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he groceries on the counter and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it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down for a min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57150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o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rais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he curtain, and the viewers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ros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their f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01T19:16:59Z</dcterms:modified>
  <cp:revision>90</cp:revision>
  <dc:subject/>
  <dc:title>No Slide Title</dc:title>
</cp:coreProperties>
</file>