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266-3AC1-409B-A1D1-74AA9935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24F-8B4E-404D-B98A-6F22CF9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E3F-0A44-4968-BB2C-CE8A592E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2E2-56AC-42B0-A923-2348792C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B8D-15CD-458B-B301-A18D17B0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C2F-1E99-46AD-9160-F3E8D980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FF7-3B58-4496-951A-A56FEA2E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A41-0E76-46D8-BBA1-9377EBEE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FE8-35DE-4480-A03D-D4BA0AD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B15-42D9-46B5-B087-24F07A9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856-5311-4BC0-9117-DDBA5CA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5F3-68CB-4E3D-8A27-064740E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A64-2151-4FFA-A369-6390BD63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76720"/>
            <a:ext cx="5724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Verb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685800"/>
            <a:ext cx="5753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sing Consisten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765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Verb tense should always tell the reader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 event happen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71800"/>
            <a:ext cx="7696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rr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 first person in her family to own her own house.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ave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her money for years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un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a good deal on a mortgage. In fact, her monthly mortgage now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ardly more than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as paying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in rent. If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decide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o sell her house in a few years, it almost certainl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ill b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orth more than it i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3276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-tense verbs of singular subjects (except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85800"/>
            <a:ext cx="736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Basic Subject-Verb Agreement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7524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ubject-verb agreement means choosing the present-tense verb that matches the subject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tense verbs of plural subjects (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 not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533520"/>
            <a:ext cx="461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952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necting words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d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form compound subjects and let you know whether the subject is singular or plu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and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41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or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should agree with the subject clos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is parents or Gregor cooks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ubject of an inverted sentence has to be determined in order to make it agree with the verb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re (is, are) the packages the messenger br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886200"/>
            <a:ext cx="73915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ackages the messenger brought ar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Is, Are) the photos of the Kaufmann House in that pack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562720"/>
            <a:ext cx="701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hotos of the Kaufmann house a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    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at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105520"/>
            <a:ext cx="6094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also be hard to identify the subject in a command or in a sentence that begins with an introductory phr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do, (fetch, fetches)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ido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fetch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41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the cockpit of the plane there (is, are)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34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n the cockpit of the plane ther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685800"/>
            <a:ext cx="5000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epositional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a three-step process to make sure the subject and verb agree in a sentence with a prepositional phra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headlines in today’s newspaper (is, are) distur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67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ut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581280"/>
            <a:ext cx="3124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8769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864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verb that agrees with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733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impl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733920"/>
            <a:ext cx="609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sing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86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  anything  anybody  each  either  neither no one  nothing  nobody  everyone  everything everybody  one  someone  something  some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eard from Dy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791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obod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s the trouble I’v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plu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oth     few     many     sev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e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flowers are in bloom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st squirrels are afraid of people, but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ever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re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can be either singular or plural depending on their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038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ll     any     some     most    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musicians are tal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at CD is fun to listen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resen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or state of being that is happening now or happens regul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s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tch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as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occurred at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429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114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future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has not yet taken place but will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8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is in progress and is happening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m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181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past action that continued for so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every morning until she hurt her f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be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7242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ongoing action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32767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started in the past and continues into the present or has just been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s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3276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took place before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d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791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y Friday, 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five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will be completed by a specified time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ost verbs in the English language follow a regular pattern for forming different tenses, but many important verbs are ir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276720"/>
          <a:ext cx="6859800" cy="28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276720"/>
                    <a:ext cx="68598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veral verb pairs are tricky because they sound so much alike but have slightly different meaning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30477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0384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81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a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 blanket on the floor, my cat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e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groceries on the counter an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down for a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o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ais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curtain, and the view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s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their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9:16:59Z</dcterms:modified>
  <cp:revision>90</cp:revision>
  <dc:subject/>
  <dc:title>No Slide Title</dc:title>
</cp:coreProperties>
</file>