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0F2-5A99-4A79-9616-7B9775CB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422-782A-4A9D-AA5B-940D87B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9F9-11CA-41BB-81E1-A085C252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614-D65B-48F1-A777-BFF2E248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ADC-BCA3-43DB-8E91-95AB3D5F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D5C-9BAD-4B34-ABCE-B8B22ED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A93-6AF8-4E15-86A5-AC92672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7B4-5D14-415F-906A-ABB06557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8C2-DC7C-4AF5-8D46-4B30A2A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617-5575-4BCC-B7B1-4C19AC2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0BB-1AF1-4278-BFE7-2E9F74A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B06-5D13-4CF2-9DF5-A8D197A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A8A-DB17-4E21-A587-E51741E8C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ew of the Writing Proces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2590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ory paragraph introduces the topic of your essay, states your main idea, and gives the thesis statement. It is usually organized from general to speci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body paragraphs give specific information to support the thesis statement. Each begins with a topic sentence, which gives the paragraph’s mai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luding paragraph restates the main idea of your essay and relates it to broader ideas. It is usually organized from specific to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ve-paragraph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has a clear, logical organiz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GED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deas and supporting details that suppor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the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attern of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dea map, circling, outlining, or a chart to organiz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 not abou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re are enough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number the groups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roductor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conclu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paragraphs and leave wide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quickly but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content an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Edited American English (EA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ollowing the Steps in 45 Minut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7432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id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 to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5 to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Estimate the amount of time you need for each ste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2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26:15Z</dcterms:modified>
  <cp:revision>184</cp:revision>
  <dc:subject/>
  <dc:title>No Slide Title</dc:title>
</cp:coreProperties>
</file>