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07D-72BE-4DBE-9BD2-AC3A8AE9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CC0-B702-4F3D-A881-2CA738E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327-B873-46C2-8D41-6B1957AB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42D-3BEC-4F7C-8629-A6E83000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30E-E65F-40B9-822D-78456C31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712-58BF-4C5B-A79C-53EA8AE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13B-14CB-464E-AF59-01ADB704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15F-9984-4D71-B019-8284A52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3A7-88C4-4869-BBB3-1C5F7FB8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A06-E97A-4553-81B6-2E9CCE1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D91-58D9-47DA-BAC4-0471F42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EDF-30B2-4561-81CA-C09E361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6EE4-B70E-4411-8971-CED5D80E3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352680"/>
            <a:ext cx="8162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eview of the Writing Proces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6172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685800"/>
            <a:ext cx="6086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Five-Paragraph Ess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120" y="25905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ory paragraph introduces the topic of your essay, states your main idea, and gives the thesis statement. It is usually organized from general to speci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body paragraphs give specific information to support the thesis statement. Each begins with a topic sentence, which gives the paragraph’s mai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luding paragraph restates the main idea of your essay and relates it to broader ideas. It is usually organized from specific to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ive-paragraph essay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has a clear, logical organiz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Gather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GED essay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ideas and supporting details that suppor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Organize the ide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pattern of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dea map, circling, outlining, or a chart to organiz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off any ideas that are not about the main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re are enough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number the groups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Writ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ntroductory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body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concluding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paragraphs and leave wide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quickly but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19320" y="685800"/>
            <a:ext cx="6781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he Writing Proces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3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re are four steps in the writing proces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09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Revise the essa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8954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content and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for Edited American English (EA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685800"/>
            <a:ext cx="77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ollowing the Steps in 45 Minut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27432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ing id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5 to 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5 to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38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Estimate the amount of time you need for each ste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Impact"/>
              </a:rPr>
              <a:t>THE END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he skills you learned in this chapter by taking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pter Review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ED Practice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522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CHAPTER 13: Review of the Writ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64008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by the McGraw-Hill Companie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27:45Z</dcterms:created>
  <dc:creator>jennifer_krasula</dc:creator>
  <dc:description/>
  <dc:language>en-US</dc:language>
  <cp:lastModifiedBy>jennifer_krasula</cp:lastModifiedBy>
  <dcterms:modified xsi:type="dcterms:W3CDTF">2002-12-04T22:26:15Z</dcterms:modified>
  <cp:revision>184</cp:revision>
  <dc:subject/>
  <dc:title>No Slide Title</dc:title>
</cp:coreProperties>
</file>