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D97-885B-4FE4-AEAB-28302381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7CD-1E8C-4616-947C-4D0F0C9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C6A-1A23-4B9A-AF91-46012B50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0E8-F892-47A7-BAE2-6E0FE3B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3F5-073D-4092-8EE1-41C3CF2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DC8-DBE9-4B49-B859-B1E93CE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A6E-7072-4468-A313-EDE52D80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1BD-ADBD-4FD1-A8CE-BA4C969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D0A-C95D-4594-8B36-137F210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A6E-CDDB-4F8C-9E2A-99FFC67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517-700D-428A-8A2F-B584E1B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526-108B-4CE2-93D2-AF135A9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4A2-7F73-4123-BC1D-F03AF1C2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ew of the Writing Proces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2590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ory paragraph introduces the topic of your essay, states your main idea, and gives the thesis statement. It is usually organized from general to speci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body paragraphs give specific information to support the thesis statement. Each begins with a topic sentence, which gives the paragraph’s mai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luding paragraph restates the main idea of your essay and relates it to broader ideas. It is usually organized from specific to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ve-paragraph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has a clear, logical organiz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GED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deas and supporting details that suppor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the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attern of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dea map, circling, outlining, or a chart to organiz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 not abou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re are enough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number the groups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roductor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conclu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paragraphs and leave wide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quickly but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content an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Edited American English (EA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ollowing the Steps in 45 Minut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7432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id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 to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5 to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Estimate the amount of time you need for each ste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2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26:15Z</dcterms:modified>
  <cp:revision>184</cp:revision>
  <dc:subject/>
  <dc:title>No Slide Title</dc:title>
</cp:coreProperties>
</file>