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82A-0242-4C5E-9CE0-A29E470C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47B-C2CE-4FC3-8618-D35701D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716-DCA3-4B8C-B781-B363A259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E41-AAB9-4B3C-8CB2-57A7A069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594-2916-4927-997A-F7CEBE01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222-8110-49B0-BCEC-DB53F6F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240-7E81-4D26-837E-96F1A45C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349-6AAE-45D5-BFEE-1743468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178-DC58-4A22-86AC-BF7D6D1F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429-B097-4596-8027-6BE624A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E9B-FA6B-4597-AF74-2A3D2B6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4A5-B777-4CC6-B24B-E1207A1C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8B2-7537-4971-847C-CB0A289B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ew of the Writing Proces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2590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ory paragraph introduces the topic of your essay, states your main idea, and gives the thesis statement. It is usually organized from general to speci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body paragraphs give specific information to support the thesis statement. Each begins with a topic sentence, which gives the paragraph’s mai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luding paragraph restates the main idea of your essay and relates it to broader ideas. It is usually organized from specific to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ve-paragraph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has a clear, logical organiz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GED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deas and supporting details that suppor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the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attern of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dea map, circling, outlining, or a chart to organiz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 not abou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re are enough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number the groups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roductor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conclu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paragraphs and leave wide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quickly but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content an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Edited American English (EA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ollowing the Steps in 45 Minut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7432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id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 to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5 to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Estimate the amount of time you need for each ste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2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26:15Z</dcterms:modified>
  <cp:revision>184</cp:revision>
  <dc:subject/>
  <dc:title>No Slide Title</dc:title>
</cp:coreProperties>
</file>