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BE3-DB98-4ECF-900E-A736889D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3C9-5AE1-4D01-900C-DE91656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38E-4830-4B9E-AC0E-A67D4343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AED-83E7-4BF7-A498-22A50254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92C-5895-4C21-851C-43225F78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FC0-FBFE-4C6C-9CB7-C181C23E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55A-CE18-41AC-BF10-DC689BA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A8F-EEA5-4C50-895A-04248EA1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23A-6D04-4911-BD17-4DC34FF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3E5-9E7B-47F4-AC03-3CF1EE1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889-2FBF-440D-A148-F9E5FF9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535-CEB0-48AD-AA5B-C1F8001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8747-8751-4F7D-8897-78FF2C155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3429000"/>
            <a:ext cx="731520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sing Your GED Essay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47920" y="685800"/>
            <a:ext cx="6019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Revision Proc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n you revise your essay, you do two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26668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ways to strengthen its content, organization, and w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your essay for Edited American English: grammar, punctuation, and sentenc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648320"/>
            <a:ext cx="876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o over your essay twice, because revising content is a very different task from revising grammatical erro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52388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Make sure your essay has the following trai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ole essay is relevant to the essay top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is clearly written and has a thesis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say has three body paragraphs, and each has a topic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paragraphs have enough supporting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specific reasons, examples, and details to support the 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339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A tax decrease is needed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cause people need more buying power to keep up with inf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648320"/>
            <a:ext cx="617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Nearly tripping on the doorsill,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a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disheveled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drunk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 a rumpled business sui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staggered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into the Starlight Hotel’s ba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at midnigh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for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one last shot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 of whiskey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before stumbling off to 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, don’t t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34340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1640" indent="-16016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Show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three-year-old daughter danced around the room, clapping her hands and laugh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42900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elling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My daughter was deligh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ransitions between sentences and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733920"/>
            <a:ext cx="6172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Small towns may be quiet and peaceful. </a:t>
            </a:r>
            <a:r>
              <a:rPr b="1" lang="en-US" sz="2600" spc="-1" strike="noStrike">
                <a:solidFill>
                  <a:srgbClr val="a50021"/>
                </a:solidFill>
                <a:latin typeface="Comic Sans MS"/>
              </a:rPr>
              <a:t>However,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 I prefer the excitement and variety of a big c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68580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evising the Organization and 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3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following techniques and tools to polish your writ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ynony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void repetition and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ghte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word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388620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Wordy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In this day and age, computers are a signific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95288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ight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660066"/>
                </a:solidFill>
                <a:latin typeface="Comic Sans MS"/>
              </a:rPr>
              <a:t>Computers are now an important part of our daily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685800"/>
            <a:ext cx="7353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Checking for Edited American Englis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523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Use the this checklist to make sure you’ve followed the standards of Edited American English (EAE)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irst word of every sentence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roper nouns capital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entences complete? Does each one have a subject and a ver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ubjects and verbs a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every sentence end with end punc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mas us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l the words spelled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2: Revising Your GE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06:31Z</dcterms:modified>
  <cp:revision>226</cp:revision>
  <dc:subject/>
  <dc:title>No Slide Title</dc:title>
</cp:coreProperties>
</file>