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A22-E883-4EC8-9180-2FDF7EE1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6FD-1FAB-4D71-85CD-8300B3D0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1EC-AAF0-4670-B752-CD5B33CC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A1E-2765-471B-9ED2-1FC275F6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F79-0E5C-483C-9476-144D0E63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000-6EE3-4790-ADAC-05D4F511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A35-F0D5-4000-9BC9-97EF80D1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93D-8D30-4BE7-8C47-EC5FA78D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075-A8A6-47FC-9706-614AED05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58D-548E-41ED-A677-8BD7FB71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503-8F07-46F7-B878-DF212373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70E-9CA1-4FD3-BBF5-0805DB05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F5BB-3FA7-40B9-9B15-487D7CE3D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3429000"/>
            <a:ext cx="731520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evising Your GED Essay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47920" y="685800"/>
            <a:ext cx="6019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Revision Proc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hen you revise your essay, you do two thing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26668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your essay for ways to strengthen its content, organization, and wo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your essay for Edited American English: grammar, punctuation, and sentenc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648320"/>
            <a:ext cx="8763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o over your essay twice, because revising content is a very different task from revising grammatical erro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388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 sure your essay has the following trai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hole essay is relevant to the essay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roduction is clearly written and has a thesis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say has three body paragraphs, and each has a topic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paragraphs have enough supporting deta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specific reasons, examples, and details to support the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7339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A tax decrease is needed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because people need more buying power to keep up with inf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648320"/>
            <a:ext cx="617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Nearly tripping on the doorsill,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a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disheveled 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drunk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 a rumpled business sui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staggered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into the Starlight Hotel’s bar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at midnigh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for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one last sho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of whiskey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before stumbling off to b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, don’t t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343400"/>
            <a:ext cx="6172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1640" indent="-16016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Showing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My three-year-old daughter danced around the room, clapping her hands and laugh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42900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elling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My daughter was deligh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ransitions between sentences and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733920"/>
            <a:ext cx="6172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Small towns may be quiet and peacefu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wever,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 I prefer the excitement and variety of a big c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ynony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void repetition and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ighte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word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3886200"/>
            <a:ext cx="739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Wordy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In this day and age, computers are a significant part of our daily l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95288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ight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Computers are now an important part of our daily l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hecking for Edited American Englis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this checklist to make sure you’ve followed the standards of Edited American English (EAE)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first word of every sentence capital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roper nouns capital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entences complete? Does each one have a subject and a ver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ubjects and verbs a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every sentence end with end punct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mas used cor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ll the words spelled cor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06:31Z</dcterms:modified>
  <cp:revision>226</cp:revision>
  <dc:subject/>
  <dc:title>No Slide Title</dc:title>
</cp:coreProperties>
</file>