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F46D-125C-4A38-878C-5F242407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1EFF-F752-4DC7-9CBC-88B84137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6351-87D1-43CA-B2FE-25705D15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9830-9166-43BE-B31B-2B0F9EDF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8820-0F19-4BA4-AA49-F8E61A16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3526-0306-40BD-B438-41B17C1D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F27D-713D-4FDB-8491-7DAAF18A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E267-1887-438B-B433-A3BA2C02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3F36-1BD3-4C41-B3AC-CEF48103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67DD-E5C1-4A7F-A5E6-CB3669F0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67B4-5631-4806-B222-0BD91135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DE6F-ADB6-4C43-8940-FCA79EC7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C526-04E6-4244-B536-8D634DEE5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38080" y="3429000"/>
            <a:ext cx="7315200" cy="12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Revising Your GED Essay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61722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2: Revising Your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447920" y="685800"/>
            <a:ext cx="60195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Revision Proce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When you revise your essay, you do two thing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3160" y="266688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your essay for ways to strengthen its content, organization, and wor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your essay for Edited American English: grammar, punctuation, and sentence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4648320"/>
            <a:ext cx="8763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Go over your essay twice, because revising content is a very different task from revising grammatical error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2: Revising Your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685800"/>
            <a:ext cx="73152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Revising the Organization and Con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523880"/>
            <a:ext cx="86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Make sure your essay has the following trai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160" y="220968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hole essay is relevant to the essay top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roduction is clearly written and has a thesis stat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ssay has three body paragraphs, and each has a topic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dy paragraphs have enough supporting detai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2: Revising Your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38080" y="685800"/>
            <a:ext cx="73152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Revising the Organization and Con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Use the following techniques and tools to polish your writing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specific reasons, examples, and details to support the th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373392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A tax decrease is needed 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because people need more buying power to keep up with infl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4648320"/>
            <a:ext cx="6172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Nearly tripping on the doorsill,</a:t>
            </a: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 a 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disheveled </a:t>
            </a: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drunk 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n a rumpled business suit</a:t>
            </a: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staggered</a:t>
            </a: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 into the Starlight Hotel’s bar 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at midnight</a:t>
            </a: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 for 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one last shot</a:t>
            </a: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 of whiskey 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before stumbling off to b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2: Revising Your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38080" y="685800"/>
            <a:ext cx="73152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Revising the Organization and Con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Use the following techniques and tools to polish your writing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, don’t t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4343400"/>
            <a:ext cx="61722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1640" indent="-160164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Showing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660066"/>
                </a:solidFill>
                <a:latin typeface="Comic Sans MS"/>
              </a:rPr>
              <a:t>My three-year-old daughter danced around the room, clapping her hands and laugh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3429000"/>
            <a:ext cx="617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5680" indent="-12556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Telling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60066"/>
                </a:solidFill>
                <a:latin typeface="Comic Sans MS"/>
              </a:rPr>
              <a:t>My daughter was delight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2: Revising Your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8080" y="685800"/>
            <a:ext cx="73152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Revising the Organization and Con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Use the following techniques and tools to polish your writing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ransitions between sentences and paragrap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3733920"/>
            <a:ext cx="61722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Comic Sans MS"/>
              </a:rPr>
              <a:t>Small towns may be quiet and peaceful.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owever,</a:t>
            </a:r>
            <a:r>
              <a:rPr b="1" lang="en-US" sz="2600" spc="-1" strike="noStrike">
                <a:solidFill>
                  <a:srgbClr val="660066"/>
                </a:solidFill>
                <a:latin typeface="Comic Sans MS"/>
              </a:rPr>
              <a:t> I prefer the excitement and variety of a big cit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2: Revising Your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685800"/>
            <a:ext cx="73152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Revising the Organization and Con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Use the following techniques and tools to polish your writing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synony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void repetition and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ighten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void wordi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3886200"/>
            <a:ext cx="7391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5680" indent="-12556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Wordy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60066"/>
                </a:solidFill>
                <a:latin typeface="Comic Sans MS"/>
              </a:rPr>
              <a:t>In this day and age, computers are a significant part of our daily liv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4952880"/>
            <a:ext cx="708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5680" indent="-12556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Tight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660066"/>
                </a:solidFill>
                <a:latin typeface="Comic Sans MS"/>
              </a:rPr>
              <a:t>Computers are now an important part of our daily liv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2: Revising Your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3808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hecking for Edited American Englis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5238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Use the this checklist to make sure you’ve followed the standards of Edited American English (EAE)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971800"/>
            <a:ext cx="8381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first word of every sentence capitaliz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roper nouns capitaliz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sentences complete? Does each one have a subject and a ver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subjects and verbs agre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every sentence end with end punctu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ommas used correct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all the words spelled correct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 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2: Revising Your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jennifer_krasula</cp:lastModifiedBy>
  <dcterms:modified xsi:type="dcterms:W3CDTF">2002-12-04T22:06:31Z</dcterms:modified>
  <cp:revision>226</cp:revision>
  <dc:subject/>
  <dc:title>No Slide Title</dc:title>
</cp:coreProperties>
</file>