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6CF-CAE9-48B8-8DB0-361CF484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7BC-3B04-4899-9428-B1494EF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BD4-4BEE-45BE-AF73-4879BF66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41C-3ED3-4C9F-87AA-70975AD2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BEC-9A94-4196-BAA7-16BAEB8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3C2-A308-4F8E-91DB-5457A11B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E58-A21C-4369-8A77-EC40C0E0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CE5-79AE-421F-BB0B-91BFDB7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467-7AC9-4CBF-B113-36BA54FA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E99-3BF5-4614-9781-E760EDC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0A8-3663-4C64-BC09-3D16AFC2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DA9-E68C-4D4F-B982-1569E766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4161-AC56-4DE6-872B-A740105D4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3429000"/>
            <a:ext cx="731520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sing Your GED Essay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47920" y="685800"/>
            <a:ext cx="6019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Revision 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you revise your essay, you do two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26668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ways to strengthen its content, organization, and w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Edited American English: grammar, punctuation, and sentenc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648320"/>
            <a:ext cx="876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o over your essay twice, because revising content is a very different task from revising grammatical erro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your essay has the following trai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ole essay is relevant to the essay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is clearly written and has a thesis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say has three body paragraphs, and each has a topic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aragraphs have enough supporting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pecific reasons, examples, and details to support the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339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A tax decrease is needed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cause people need more buying power to keep up with inf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648320"/>
            <a:ext cx="61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Nearly tripping on the doorsill,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isheveled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drunk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 a rumpled business sui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staggered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into the Starlight Hotel’s ba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at midnigh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fo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one last sho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of whiskey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fore stumbling off to 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, don’t t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34340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1640" indent="-16016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Show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three-year-old daughter danced around the room, clapping her hands and laugh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42900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ell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daughter was deligh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ransitions between sentences and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733920"/>
            <a:ext cx="6172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Small towns may be quiet and peacefu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wever,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 I prefer the excitement and variety of a big c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void repetition an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ghte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word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388620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Wordy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In this day and age, computers are a signific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95288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ight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Computers are now an import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ecking for Edited American Engli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this checklist to make sure you’ve followed the standards of Edited American English (EAE)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irst word of every sentence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roper nouns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entences complete? Does each one have a subject and a ver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ubjects and verbs a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every sentence end with end punc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mas us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l the words spell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31Z</dcterms:modified>
  <cp:revision>226</cp:revision>
  <dc:subject/>
  <dc:title>No Slide Title</dc:title>
</cp:coreProperties>
</file>