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2BC2-3BA6-42AF-BA58-32B57295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CE8A-C298-431D-AD4D-042DDEB4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1D15-7B18-4AB3-ADEC-63D4483C0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E08D-592C-4738-BE9C-0B542606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C54B-C1E0-4B18-853D-66F4C51D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BDC2-CB60-483E-B9D4-5390500F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7241-71AD-427D-9573-D867DB60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14E4-7492-4C7C-8FB5-21AF8E15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9832-7501-4DE1-BB1F-7937AFE7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09E6-9430-447B-9B3B-852EF041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FD43-9859-4FED-BF2B-9703E25E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7B91-F110-443D-820A-C5110DB7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FE38-368B-4F78-904F-556F79648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2514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HAPTER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90720" y="3429000"/>
            <a:ext cx="6877080" cy="12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Organizing Your Ideas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61722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0: Organiz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523880" y="685800"/>
            <a:ext cx="5867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rranging Your Ide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52388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Making a char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914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746360" y="2208240"/>
          <a:ext cx="6046560" cy="3940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2208240"/>
                    <a:ext cx="6046560" cy="39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0: Organiz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40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Double-Checking Your Ide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Make sure that you have enough ideas and that they all relate to the main ide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7720" y="2514600"/>
            <a:ext cx="76964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 off any ideas that don’t relate to the main i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have at least two or three good supporting details in each of your three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yoursel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stions if you need more id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57913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Wh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6019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57913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Wh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6019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W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5791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77120" y="60199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THE END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3733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the skills you learned in this chapter by taking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apter Review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GED Practice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0: Organiz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0: Organiz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1440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Deciding on a Pattern of Organiz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52388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Your topic and main idea determine which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attern of organization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you will use to organize your supporting detail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09480" y="32004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ime order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reasons, list steps in a process, describe a routing, or tell about an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4572000"/>
            <a:ext cx="7010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03640" indent="-32036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main idea: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I had a terrib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0: Organiz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1440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Deciding on a Pattern of Organiz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52388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Your topic and main idea determine which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attern of organization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you will use to organize your supporting detail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160" y="32004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Order of importance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reasons to support a particular belief by moving from the least important reason to the most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4876920"/>
            <a:ext cx="7391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03640" indent="-32036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main idea: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Television provides many benef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0: Organiz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1440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Deciding on a Pattern of Organiz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52388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Your topic and main idea determine which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attern of organization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you will use to organize your supporting detail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09480" y="31237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ause and effect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why something happened by explaining the reasons for it (causes) or predict the possible results (effects if an event or action takes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5029200"/>
            <a:ext cx="7391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03640" indent="-32036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main idea: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eople are under a lot of stress because they have too much to 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0: Organiz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1440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Deciding on a Pattern of Organiz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152388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Your topic and main idea determine which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attern of organization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you will use to organize your supporting detail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09480" y="320004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omparison and contrast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how two things are alike and/or how they are diffe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4419720"/>
            <a:ext cx="7391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03640" indent="-32036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main idea: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SUVs and cars have different advantages and disadvant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0: Organiz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523880" y="685800"/>
            <a:ext cx="5867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rranging Your Ide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523880"/>
            <a:ext cx="8915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fter choosing a pattern of organization, arrange the ideas you gathered in three group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66688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There are several ways to arrange your ide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294920" y="3809880"/>
            <a:ext cx="58676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ma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a ch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19520" y="2743200"/>
            <a:ext cx="1371600" cy="68580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0: Organiz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43800" y="914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33920" y="3581280"/>
            <a:ext cx="2286000" cy="144792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3809880"/>
            <a:ext cx="1295280" cy="68580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380988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eople are under a lot of stress because they have too much to 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934320" y="4038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2514600"/>
            <a:ext cx="1295640" cy="60948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26668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ong H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0120" y="3124080"/>
            <a:ext cx="1295280" cy="60984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48720" y="327672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ow P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0120" y="4800600"/>
            <a:ext cx="1295280" cy="83808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495288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fficult Bo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5181480"/>
            <a:ext cx="1295640" cy="83844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19920" y="533412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oo Many Dead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019920" y="411444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86600" y="312408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7696080" y="365724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96080" y="44197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705360" y="44197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5105520"/>
            <a:ext cx="1295280" cy="68580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518148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Kids’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5562720"/>
            <a:ext cx="1295280" cy="83808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57150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ake Kids to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276360" y="47242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523880" y="548640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3505320"/>
            <a:ext cx="1295640" cy="68580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36576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riv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281952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angerous Dr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2971800"/>
            <a:ext cx="1295640" cy="60948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2987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Heavy Traff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2819520" y="388584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590920" y="3276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1371240" y="34286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23880" y="685800"/>
            <a:ext cx="5867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rranging Your Ide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52388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Idea mapping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0: Organiz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23880" y="685800"/>
            <a:ext cx="5867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rranging Your Ide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152388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Circling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43800" y="914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2133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1960" indent="-2001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idea: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TV provides many benef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2666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1960" indent="-20019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/Supporting Details: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3352680"/>
            <a:ext cx="2590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Game sh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Come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Football, baseball, and basketball g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Dra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3429000"/>
            <a:ext cx="2590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News sh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Biograph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Document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Health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GED preparation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Sesame Street—for k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3200400"/>
            <a:ext cx="2971800" cy="2057400"/>
          </a:xfrm>
          <a:prstGeom prst="ellipse">
            <a:avLst/>
          </a:pr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3200400"/>
            <a:ext cx="2438280" cy="1600200"/>
          </a:xfrm>
          <a:prstGeom prst="ellipse">
            <a:avLst/>
          </a:pr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1120" y="4876920"/>
            <a:ext cx="2666880" cy="1523880"/>
          </a:xfrm>
          <a:prstGeom prst="ellipse">
            <a:avLst/>
          </a:pr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5410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Entertai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0" y="3657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0: Organiz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3880" y="685800"/>
            <a:ext cx="5867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rranging Your Ide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152388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Outlining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43800" y="914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2133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1960" indent="-2001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Why I Had a Terrible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2666880"/>
            <a:ext cx="4343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I. 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Mo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A.  Oversl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B.  Couldn’t find ke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C.  Bus was 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II. 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Afterno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A.  Got yelled at by b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B.  Got a head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C.  Customers in bad mo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III. Eve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A.  Began feeling si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B.  Got soaked in the 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C.  Had a temperature of 101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27:45Z</dcterms:created>
  <dc:creator>jennifer_krasula</dc:creator>
  <dc:description/>
  <dc:language>en-US</dc:language>
  <cp:lastModifiedBy>jennifer_krasula</cp:lastModifiedBy>
  <dcterms:modified xsi:type="dcterms:W3CDTF">2002-12-05T17:14:21Z</dcterms:modified>
  <cp:revision>206</cp:revision>
  <dc:subject/>
  <dc:title>No Slide Title</dc:title>
</cp:coreProperties>
</file>