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BF0-4782-4BF0-A14D-683A292C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BBC-6685-439D-9CD5-34666AB2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4E1-C6EE-478F-9B8A-3F5DB26F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9B5-EC5E-4744-BB6C-75AE940F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F37-DB8D-44BD-BDB4-C5C2B844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312-E67E-4D19-AD54-B563ADA3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9BA-0CA4-4C93-9433-3113493E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2C5-7A63-4BDB-AFC2-7E3260AF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51F-591F-4CE7-ADBD-6C78408A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10C-F802-4A71-95D8-7C37645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FDD-94EB-42EE-82A7-8DFF3F4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606-927D-426E-8020-52DB600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DA65-4DDF-4AB0-93A8-ACD2CE0BE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429000"/>
            <a:ext cx="687708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rganizing Your Idea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ing a char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46360" y="2208240"/>
          <a:ext cx="6046560" cy="394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2208240"/>
                    <a:ext cx="60465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ouble-Check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 sure that you have enough ideas and that they all relate to the main ide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5146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don’t relate to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have at least two or three good supporting details in each of your three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sel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if you need mor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5791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6019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791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6019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32004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ime order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asons, list steps in a process, describe a routing, or tell about an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572000"/>
            <a:ext cx="701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I had a terrib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2004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rder of importance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asons to support a particular belief by moving from the least important reason to the mo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876920"/>
            <a:ext cx="7391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elevision provides many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48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use and effect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y something happened by explaining the reasons for it (causes) or predict the possible results (effects if an event or action take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502920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eople are under a lot of stress because they have too much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eciding on a Pattern of Organiz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Your topic and main idea determine which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pattern of organization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you will use to organize your supporting detai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480" y="32000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mparison and contrast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wo things are alike and/or how they are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419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3640" indent="-3203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UVs and cars have different advantages and dis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fter choosing a pattern of organization, arrange the ideas you gathered in three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6668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There are several ways to arrange you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5867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19520" y="2743200"/>
            <a:ext cx="137160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581280"/>
            <a:ext cx="2286000" cy="144792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80988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809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ople are under a lot of stress because they have too much to 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5146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666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ng H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3124080"/>
            <a:ext cx="1295280" cy="6098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ow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480060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4952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fficult 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181480"/>
            <a:ext cx="1295640" cy="83844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5334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o Many Dead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019920" y="41144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31240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9608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4419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70536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5105520"/>
            <a:ext cx="129528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1814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ids’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562720"/>
            <a:ext cx="1295280" cy="8380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715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ake Kids to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76360" y="4724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23880" y="5486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3505320"/>
            <a:ext cx="1295640" cy="68580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657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r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819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ngerous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971800"/>
            <a:ext cx="1295640" cy="609480"/>
          </a:xfrm>
          <a:prstGeom prst="ellipse">
            <a:avLst/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987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eavy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819520" y="38858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90920" y="3276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37124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Idea mapp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Circl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V provides many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666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Supporting Details: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526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Game sh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ome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Football, baseball, and basketball g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D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42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News sh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iograp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Document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Health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GED preparatio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Sesame Street—for k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200400"/>
            <a:ext cx="2971800" cy="205740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2438280" cy="160020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4876920"/>
            <a:ext cx="2666880" cy="152388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410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3657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0: Organizing Your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685800"/>
            <a:ext cx="586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Arranging Your Ide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523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Outlin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914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960" indent="-200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Why I Had a Terribl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66688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. 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Mo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Oversl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Couldn’t find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Bus was 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I. 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ftern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Got yelled at by b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Got a head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Customers in bad m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III. Ev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A.  Began feeling s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B.  Got soaked in the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660066"/>
                </a:solidFill>
                <a:latin typeface="Comic Sans MS"/>
              </a:rPr>
              <a:t>C.  Had a temperature of 101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5T17:14:21Z</dcterms:modified>
  <cp:revision>206</cp:revision>
  <dc:subject/>
  <dc:title>No Slide Title</dc:title>
</cp:coreProperties>
</file>