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57D3-BA0B-4A6B-A36E-DCAF0CFE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01B7-7EBA-40D1-9408-2423F41F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3645-03F0-4BEF-BFE5-E50AAD8F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7C2F-FB6C-40E7-8E67-CBB00779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CFBE-5839-4159-8C4F-7B291709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7199-4F0A-4F01-9D12-EB40AE34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5115-827A-4D3E-BBAF-5798D73F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7856-E30E-4287-8C3F-4D1ACA3B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2658-EB84-42BC-B363-5530FA9E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887E-78C5-4497-9F89-5FA66E78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1EA6-82C2-4804-98D4-EEEE72C3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FE4C-C6F8-4DC6-A92B-068F01B2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BC75-EC60-4E3A-A4D6-015079939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3429000"/>
            <a:ext cx="6877080" cy="12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Organizing Your Idea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523880" y="685800"/>
            <a:ext cx="5867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rranging Your Ide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52388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Making a char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746360" y="2208240"/>
          <a:ext cx="6046560" cy="3940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2208240"/>
                    <a:ext cx="604656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ouble-Checking Your Ide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Make sure that you have enough ideas and that they all relate to the main ide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7720" y="2514600"/>
            <a:ext cx="76964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off any ideas that don’t relate to the main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have at least two or three good supporting details in each of your three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yoursel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stions if you need more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57913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Wh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6019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57913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6019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5791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77120" y="6019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eciding on a Pattern of Organiz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5238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Your topic and main idea determine which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attern of organizatio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you will use to organize your supporting detail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9480" y="32004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ime order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reasons, list steps in a process, describe a routing, or tell about an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4572000"/>
            <a:ext cx="7010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03640" indent="-3203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main idea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I had a terrib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eciding on a Pattern of Organiz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5238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Your topic and main idea determine which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attern of organizatio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you will use to organize your supporting detail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160" y="32004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Order of importance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reasons to support a particular belief by moving from the least important reason to the most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4876920"/>
            <a:ext cx="7391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03640" indent="-3203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main idea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Television provides many benef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eciding on a Pattern of Organiz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5238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Your topic and main idea determine which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attern of organizatio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you will use to organize your supporting detail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09480" y="31237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ause and effect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why something happened by explaining the reasons for it (causes) or predict the possible results (effects if an event or action takes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5029200"/>
            <a:ext cx="7391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03640" indent="-3203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main idea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eople are under a lot of stress because they have too much to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eciding on a Pattern of Organiz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15238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Your topic and main idea determine which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attern of organizatio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you will use to organize your supporting detail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09480" y="32000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mparison and contrast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how two things are alike and/or how they are diffe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4419720"/>
            <a:ext cx="7391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03640" indent="-3203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main idea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UVs and cars have different advantages and disadvant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23880" y="685800"/>
            <a:ext cx="5867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rranging Your Ide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523880"/>
            <a:ext cx="891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fter choosing a pattern of organization, arrange the ideas you gathered in three group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66688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There are several ways to arrange your ide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294920" y="3809880"/>
            <a:ext cx="58676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a 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19520" y="2743200"/>
            <a:ext cx="137160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4380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3581280"/>
            <a:ext cx="2286000" cy="144792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3809880"/>
            <a:ext cx="129528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380988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eople are under a lot of stress because they have too much to 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34320" y="4038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2514600"/>
            <a:ext cx="1295640" cy="6094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26668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ong H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3124080"/>
            <a:ext cx="1295280" cy="60984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48720" y="32767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ow P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0120" y="4800600"/>
            <a:ext cx="1295280" cy="8380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49528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fficult B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5181480"/>
            <a:ext cx="1295640" cy="83844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19920" y="53341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oo Many Dead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019920" y="411444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86600" y="312408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696080" y="36572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96080" y="4419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705360" y="44197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5105520"/>
            <a:ext cx="129528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51814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Kids’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562720"/>
            <a:ext cx="1295280" cy="8380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57150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ake Kids to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276360" y="47242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523880" y="548640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3505320"/>
            <a:ext cx="129564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6576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ri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28195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ngerous 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2971800"/>
            <a:ext cx="1295640" cy="6094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987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eavy 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819520" y="388584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590920" y="3276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1371240" y="34286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23880" y="685800"/>
            <a:ext cx="5867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rranging Your Ide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52388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Idea mapp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23880" y="685800"/>
            <a:ext cx="5867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rranging Your Ide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52388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Circl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4380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2133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960" indent="-2001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idea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TV provides many benef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666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960" indent="-20019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/Supporting Details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35268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Game sh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Come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Football, baseball, and basketball g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Dra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342900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News sh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Biograph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Document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Health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GED preparation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Sesame Street—for k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200400"/>
            <a:ext cx="2971800" cy="2057400"/>
          </a:xfrm>
          <a:prstGeom prst="ellipse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3200400"/>
            <a:ext cx="2438280" cy="1600200"/>
          </a:xfrm>
          <a:prstGeom prst="ellipse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4876920"/>
            <a:ext cx="2666880" cy="1523880"/>
          </a:xfrm>
          <a:prstGeom prst="ellipse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5410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Entertai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0" y="3657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880" y="685800"/>
            <a:ext cx="5867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rranging Your Ide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52388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Outlin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4380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2133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960" indent="-2001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Why I Had a Terrible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666880"/>
            <a:ext cx="434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I. 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Mo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A.  Oversl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B.  Couldn’t find ke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C.  Bus was 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II. 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Afterno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A.  Got yelled at by b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B.  Got a head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C.  Customers in bad m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III. Eve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A.  Began feeling s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B.  Got soaked in the 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C.  Had a temperature of 101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12-05T17:14:21Z</dcterms:modified>
  <cp:revision>206</cp:revision>
  <dc:subject/>
  <dc:title>No Slide Title</dc:title>
</cp:coreProperties>
</file>