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8142-849E-4509-A678-5FD941CF5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0783-E192-4FD8-BAD2-F433F74C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098F-819C-4197-97CA-C59131074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830A-8CFD-4241-A5DA-E1CCA585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FD6F-8C48-4BEF-9B62-2984B4C1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6882-A8CF-4E17-82E1-261B781A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CBFC-9996-474C-84F3-1E754061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5520-10CA-4591-A9DC-9619282E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5FCD-0AC6-4634-80FA-E59F58BD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71EB-B80B-4DB3-B6A3-B5EEDFEF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1A21-3A20-40B6-B06C-C227EB74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2339-3062-47C1-BB0E-F3162A50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4E81-A93D-44E2-AC6F-CCC3A96B2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2514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3276720"/>
            <a:ext cx="772488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Sentence Basics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2590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lural no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mes more than one person, place, thing, or id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809880" y="609480"/>
            <a:ext cx="14479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Nou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152388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noun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is a word that labels a person, place, thing, or ide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2670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roper no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mes a specific person, place, thing, or idea and begins with a capital let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35812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tigers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are hu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56386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tiger is named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Shep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ossessive no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ownership. An apostrophe (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and an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-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used to form the possess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809880" y="609480"/>
            <a:ext cx="14479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Nou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52388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noun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is a word that labels a person, place, thing, or ide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42670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Shep’s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home is in northeast A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51814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Tigers’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main food source is wild p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99072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80880" y="2590560"/>
            <a:ext cx="4648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noun may be a su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505320" y="685800"/>
            <a:ext cx="20858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Pronou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52388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ronouns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can replace nouns, making writing less repetitiv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35812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Comic Sans MS"/>
              </a:rPr>
              <a:t>I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, you, he, she, it, we, they, w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55627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me, you, him, her, it, us, them, wh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25909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ssessive pronoun may stand al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4572000"/>
            <a:ext cx="480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noun may be an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358128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mine, yours, his, hers, ours, theirs,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55627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my, your, his, her, its, our, their,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19720" y="4572000"/>
            <a:ext cx="4419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ssessive pronoun may accompany a 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ompounds with a noun and a pronoun, it can be hard to figure out whether to use a subject pronoun or an object pronoun. To make it easier, cross out the no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05320" y="685800"/>
            <a:ext cx="20858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Pronou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1523880"/>
            <a:ext cx="8610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ronouns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can replace nouns, making writing less repetitiv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10666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45720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Kyoko and 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(I, me)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went to a conc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4800600"/>
            <a:ext cx="121932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51814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(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, me)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went to a conc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57913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Kyoko and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I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went to a conc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3047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ions use apostrophes. Possessive pronouns do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09480" y="685800"/>
            <a:ext cx="79059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ntractions, Plurals, and Possessiv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523880"/>
            <a:ext cx="8305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Soundalike words, called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homonyms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, can cause confusion about when to use apostroph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46483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essive nouns use apostrophes. Possessive pronouns do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40384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You’re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out of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your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m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71600" y="56386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robot’s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metal hand reached out and scratched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its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h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3047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er use an apostrophe to form a plural noun (even if it sounds like a possessive nou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09480" y="685800"/>
            <a:ext cx="79059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ntractions, Plurals, and Possessiv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1523880"/>
            <a:ext cx="8305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Soundalike words, called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homonyms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, can cause confusion about when to use apostroph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464832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coal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miners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went out on strike and the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steelworkers’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union voted to join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Impact"/>
              </a:rPr>
              <a:t>THE</a:t>
            </a:r>
            <a:r>
              <a:rPr b="1" lang="en-US" sz="7200" spc="-1" strike="noStrike">
                <a:solidFill>
                  <a:srgbClr val="a50021"/>
                </a:solidFill>
                <a:latin typeface="Impact"/>
              </a:rPr>
              <a:t> </a:t>
            </a:r>
            <a:r>
              <a:rPr b="1" lang="en-US" sz="7200" spc="-1" strike="noStrike">
                <a:solidFill>
                  <a:srgbClr val="a50021"/>
                </a:solidFill>
                <a:latin typeface="Impact"/>
              </a:rPr>
              <a:t>END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3733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the skills you learned in this chapter by taking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hapter Review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GED Practice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contain 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subj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tells you who or what the sentence is ab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057400" y="685800"/>
            <a:ext cx="46958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Parts of a Sentenc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60020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 group of words must pass three tests in order to be called a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sentence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1911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contain 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redic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tells you what the subject is or do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57150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express 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omplete thou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3657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Gabriella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lives in Manhatt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51814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Gabriella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lives in Manhatt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action ver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scribes the action in a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219320" y="685800"/>
            <a:ext cx="65437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ction versus Linking Verb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52388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wo types of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verbs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make up all sentenc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39625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linking ver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nks the subject of the sentence to words that describe or renam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2767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dance       drive       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5029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appear       be       become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       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s       seem       w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2438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bject of 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omm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lways understood to be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981080" y="685800"/>
            <a:ext cx="46864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ypes of Sentenc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37160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It can be hard to find the subject and verb in certain types of sentenc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42670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ques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verb comes before the subject. To find the subject and verb, rewrite the question as a stat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3429000"/>
            <a:ext cx="304776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Give me that 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Ve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76920" y="5638680"/>
            <a:ext cx="35049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Danielle was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Subject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          Verb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5638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Was Danielle ho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3429000"/>
            <a:ext cx="99036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[You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480" y="2514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here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ther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sent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verb also comes before the subject. </a:t>
            </a:r>
            <a:r>
              <a:rPr b="0" i="1" lang="en-US" sz="2800" spc="-1" strike="noStrike">
                <a:solidFill>
                  <a:srgbClr val="660066"/>
                </a:solidFill>
                <a:latin typeface="Comic Sans MS"/>
              </a:rPr>
              <a:t>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660066"/>
                </a:solidFill>
                <a:latin typeface="Comic Sans MS"/>
              </a:rPr>
              <a:t>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ever the su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981080" y="685800"/>
            <a:ext cx="46864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ypes of Sentenc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37160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It can be hard to find the subject and verb in certain types of sentenc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4724280"/>
            <a:ext cx="518148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My afternoon goes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Comic Sans MS"/>
              </a:rPr>
              <a:t>             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Subject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          Verb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40384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re goes my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0" y="914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2819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sentence must start with a capital let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057400" y="762120"/>
            <a:ext cx="46958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Rules of the Sentenc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175248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re are two important rules for writing a sentence correctl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43434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sentence must end with a punctuation mark (a period, question mark, or exclamation poin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95280" y="38098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neighbors are getting lou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57150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neighbors are making such a racke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und su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66680" y="685800"/>
            <a:ext cx="71154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pound Subjects and Verb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60020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 sentence can have more than one subject or more than one verb (or both at once)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4956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und ver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5812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Danielle and Darryl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were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52578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boxes have been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packed, labeled, and shi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parate a subject from a predicate with a com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52480" y="762120"/>
            <a:ext cx="57628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mas with Compound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752480"/>
            <a:ext cx="8382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re are several guidelines for using commas in a compound sentenc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46483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ut a comma between two parts of a compound subject or ver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3962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woman riding the brown horse, is my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56386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Jamil, and Katy got engaged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752480" y="762120"/>
            <a:ext cx="57628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mas with Compound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752480"/>
            <a:ext cx="8382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re are several guidelines for using commas in a compound sentenc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971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a comma when a compound has three or more subjects or ver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411480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My boss, her assistant, and I arrived early for the me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518148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is morning she jogged three miles, lifted weights, and stre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0120" y="990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27:45Z</dcterms:created>
  <dc:creator>jennifer_krasula</dc:creator>
  <dc:description/>
  <dc:language>en-US</dc:language>
  <cp:lastModifiedBy>jennifer_krasula</cp:lastModifiedBy>
  <dcterms:modified xsi:type="dcterms:W3CDTF">2002-05-01T18:40:04Z</dcterms:modified>
  <cp:revision>72</cp:revision>
  <dc:subject/>
  <dc:title>No Slide Title</dc:title>
</cp:coreProperties>
</file>