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3EA-477E-4D8F-A4D9-11BE9734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629-5F1F-445F-9F61-822FC719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9C9-B423-4D3C-B05D-AFE3E2C1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58A-91CF-465C-AE5F-32BE98E6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C9C-6868-4440-9158-CAA88E9B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861-9E2C-4072-A921-63009CC7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B3B-5DCE-4A64-ACDE-1FCBBCE5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C74-2347-4901-8F10-985A5F19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60F-AFC0-4D00-A833-0C615F84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BB1-DF31-45B8-8843-0534A2C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A69-EA68-4CFC-B2C6-072EE25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E96-E18E-426C-97F2-8D242DCE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4A9-8733-4B0A-94FB-5FDB8C3C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276720"/>
            <a:ext cx="7724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entence Bas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lural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more than one person, place, thing, or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oper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a specific person, place, thing, or idea and begins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re hu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8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tiger is nam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ossessive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ownership. An apostrophe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nd a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form the poss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267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me is in northeast A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in food source is wild p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5238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you, he, she, it, we, they,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562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e, you, him, her, it, us, them, wh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5909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57200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5812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ne, yours, his, hers, ours, theirs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, your, his, her, its, our, their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5720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accompany a 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ounds with a noun and a pronoun, it can be hard to figure out whether to use a subject pronoun or an object pronoun. To make it easier, cross out the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523880"/>
            <a:ext cx="861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572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I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80060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nou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038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’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ut of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bo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etal hand reached out and scratch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n apostrophe to form a plural noun (even if it sounds like a possessive nou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6483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l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min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out on strike and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teelwork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union voted to jo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 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o or what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400" y="68580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ts of a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group of words must pass three tests in order to be called 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sentenc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at the subject is or d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express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te thou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Gabriella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briella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on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the action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9320" y="685800"/>
            <a:ext cx="6543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ction versus Linking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types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verb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make up all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962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linking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ks the subject of the sentence to words that describe or renam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276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ce       drive      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5029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ppear       be       become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      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s       seem      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of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understood to b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comes before the subject. To find the subject and verb, rewrite the question as a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429000"/>
            <a:ext cx="3047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ive me that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5638680"/>
            <a:ext cx="35049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ielle wa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as Danielle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429000"/>
            <a:ext cx="9903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[You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her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r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also comes before the subject.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ver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51814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afternoon goes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038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re goes my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start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7400" y="76212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les of the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7524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two important rules for writing a sentence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end with a punctuation mark (a period, question mark, or exclamation poi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3809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getting lo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making such a rack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680" y="685800"/>
            <a:ext cx="7115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 and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sentence can have more than one subject or more than one verb (or both at once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Danielle and Darry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re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257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boxes have bee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packed, labeled, and sh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 a subject from a predicate with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 a comma between two parts of a compound subject or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62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woman riding the brown horse, is my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638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mil, and Katy got engaged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971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hen a compound has three or more subjects or 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1148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boss, her assistant, and I arrived early for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1814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orning she jogged three miles, lifted weights, and stre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8:40:04Z</dcterms:modified>
  <cp:revision>72</cp:revision>
  <dc:subject/>
  <dc:title>No Slide Title</dc:title>
</cp:coreProperties>
</file>